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8.jpeg" ContentType="image/jpeg"/>
  <Override PartName="/ppt/media/image32.png" ContentType="image/png"/>
  <Override PartName="/ppt/media/image40.jpeg" ContentType="image/jpeg"/>
  <Override PartName="/ppt/media/image44.png" ContentType="image/png"/>
  <Override PartName="/ppt/media/image45.jpeg" ContentType="image/jpeg"/>
  <Override PartName="/ppt/media/image35.png" ContentType="image/png"/>
  <Override PartName="/ppt/media/image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9.jpeg" ContentType="image/jpeg"/>
  <Override PartName="/ppt/media/image20.jpeg" ContentType="image/jpeg"/>
  <Override PartName="/ppt/media/image7.png" ContentType="image/png"/>
  <Override PartName="/ppt/media/image34.jpeg" ContentType="image/jpeg"/>
  <Override PartName="/ppt/media/image22.jpeg" ContentType="image/jpeg"/>
  <Override PartName="/ppt/media/image39.png" ContentType="image/png"/>
  <Override PartName="/ppt/media/image6.png" ContentType="image/png"/>
  <Override PartName="/ppt/media/image26.jpeg" ContentType="image/jpeg"/>
  <Override PartName="/ppt/media/image42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E1C5-5FE9-459B-A00F-00692BE72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208B-6B44-419F-BA65-97DAF73E49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D2A7-2CB6-4B5E-AA1B-4BA963E68EAA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D1AC-E3BC-4F1B-9A69-777B2E20AC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2761-BD3D-4F58-A08B-84D1C3CB1C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93EE-4415-4C14-BE77-E1FBAFE539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27CE-0BD1-4856-ABF9-84CB2397C4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A984-837D-445F-9080-BE11230A07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DA96-4481-419C-90CC-990AAAFE56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5223-8990-42BB-9945-934C6DFB0C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37AF-544D-482B-9B91-FFEF7631F3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A7A1-5F43-47D8-A067-17E62D9549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1F35-5B4D-42EE-88BC-84140CE2ED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359B-154D-4042-85E8-309B604AFE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3843-D054-4937-B523-629DCBC0FC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EE3D-96E1-454E-AAAC-2D191425AB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CFB2-9176-4625-ADBD-0C64809649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7476-2E6F-4F3E-A698-732CB10D08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B852-F1AA-46E4-BD95-968E501E29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DE6B-09BF-4BD8-B8A4-059C7BD323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1BB3-5D9A-42C7-82F7-B77898EFD6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522B-51AF-4F6B-A851-E05B6451744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E251-5A51-4C84-BF19-13EBD73452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1FB4-C905-4752-B092-6E4092AD9F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2A49-D87E-4AD7-B7BC-BD6A149890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3711-24E2-43B8-A2F5-1F49AAE12676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C251-1664-4BC2-B108-BC51C8F9FD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5986-01BB-42F0-B213-A497DB9187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0ECC-4A4E-4200-9591-17B135EB78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DBFD-0EBA-442C-AB33-AB7B6F4168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4EDD-E89E-40C6-9878-0C49C5C4AC53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90D4-3D15-438F-A2CF-BA7765F4329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0672-F573-4B7F-B51A-C5EDCC631A15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D705-803E-44F9-88A8-1D8FFE6AEC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614C-C62B-4DE5-BFF3-F19056FF7A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AE97-60DE-4F78-BCF4-2BB7FDD387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3DD4-C73B-4102-B2FD-2130272A00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4C35-B5B0-49CC-A39E-D4F3B3AEF7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83FE-517B-4BE6-8A32-5F9931FC04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40D5-5234-4C1A-9D40-AE6B5BFBF2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8846-E7A0-450B-AFB2-5354587907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70DF-B8B1-4D86-B83D-0CF511DB3C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34CA-01CD-4EAE-94C6-398EE312B5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7E3F-8016-4621-B043-9EC3BA695D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BCD7-734C-4E39-B828-D963A7C0E8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6834-0B4E-42F3-8DC9-C435666866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239F-3A4E-4152-BF6D-8C84CA319F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C1AC-E90F-40EF-AC21-6FB7C11F70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915B-407D-4AC3-923A-B2BD24B25F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1281-464F-4703-8CE4-D200F54028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75FA-7D07-4767-B4F4-FE24C04450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1EE5-E9BC-45E1-8D5D-04F57D0330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2560-A4ED-4C13-A96A-59630E1792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64FE-747D-454D-A789-E35FC8565A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1FEF-2783-484C-940B-E8163703B4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23A9-CF4B-43D5-9980-7D65854774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3864-66E7-4408-996C-7351916816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95AC-A08F-4044-B58B-1DE7FC4318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D57F-12F4-4EE9-88FC-ABC2ECCD2D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4B05-63B9-4FE5-9180-A98C5EB02291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783-846D-4979-BC01-EB1AD21D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468-105E-4D5A-9BFE-AC3F202A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524-1564-4427-9A17-52059EEB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168-D042-4BBC-A315-D4E12696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423-AA0C-4A1E-AC76-07A1A290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60C-4F0F-4D92-ACEA-299D831C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699-665E-44F7-9ED7-EABDE9F0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D99-1C53-4D82-B5CF-D605D918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84B-6CE9-409F-948A-44AD718A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A9A-75BD-4A29-836C-BBBFB123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48E-0CBB-46B6-9820-A68A2A33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C7A-A122-4BCE-BB7B-0A316BF0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1E86-92D7-47E4-9F5E-A60543D2D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http://wps.prenhall.com/wps/media/objects/476/488316/Instructor_Resources/Chapter_12/FG12_23-04e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Међумолекулск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интеракциј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aspartame"/>
          <p:cNvPicPr/>
          <p:nvPr/>
        </p:nvPicPr>
        <p:blipFill>
          <a:blip r:embed="rId1"/>
          <a:stretch/>
        </p:blipFill>
        <p:spPr>
          <a:xfrm>
            <a:off x="228600" y="2349360"/>
            <a:ext cx="4724280" cy="249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4876920" y="31240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Аспартан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,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вештачки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заслађив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lassification_of_matter_large"/>
          <p:cNvPicPr/>
          <p:nvPr/>
        </p:nvPicPr>
        <p:blipFill>
          <a:blip r:embed="rId2"/>
          <a:srcRect l="70818" t="42390" r="147" b="24920"/>
          <a:stretch/>
        </p:blipFill>
        <p:spPr>
          <a:xfrm>
            <a:off x="5727600" y="3413160"/>
            <a:ext cx="2489400" cy="1311120"/>
          </a:xfrm>
          <a:prstGeom prst="rect">
            <a:avLst/>
          </a:prstGeom>
          <a:ln w="0">
            <a:noFill/>
          </a:ln>
        </p:spPr>
      </p:pic>
      <p:sp>
        <p:nvSpPr>
          <p:cNvPr id="52" name="Subtitle 2"/>
          <p:cNvSpPr/>
          <p:nvPr/>
        </p:nvSpPr>
        <p:spPr>
          <a:xfrm>
            <a:off x="1143000" y="519912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699680" y="645804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ubtitle 2"/>
          <p:cNvSpPr/>
          <p:nvPr/>
        </p:nvSpPr>
        <p:spPr>
          <a:xfrm>
            <a:off x="1523880" y="4960800"/>
            <a:ext cx="64008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0" y="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ко долази до јон-дипол интеракциј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0" y="685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  <a:ea typeface="Arial"/>
              </a:rPr>
              <a:t>Јако полар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вод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ће интераговати са јонима од којих је изграђено неко јонско једињење, раскидаће се јаке јон-јон везе и успостављааће се већи број јон-дипол вез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710240" y="1981080"/>
            <a:ext cx="44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  <a:ea typeface="Arial"/>
              </a:rPr>
              <a:t>Сваки јо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ј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кружен са више молекула воде, долази до уређења молекула воде око ј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D:\documents\slike sa web 2013\nacl1.jpg"/>
          <p:cNvPicPr/>
          <p:nvPr/>
        </p:nvPicPr>
        <p:blipFill>
          <a:blip r:embed="rId1"/>
          <a:stretch/>
        </p:blipFill>
        <p:spPr>
          <a:xfrm>
            <a:off x="0" y="3352680"/>
            <a:ext cx="4782960" cy="35053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0" y="5562720"/>
            <a:ext cx="1905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рсти јонски кристал Na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523880" y="2590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ларни молеку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в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12"/>
          <p:cNvCxnSpPr/>
          <p:nvPr/>
        </p:nvCxnSpPr>
        <p:spPr>
          <a:xfrm>
            <a:off x="989640" y="4114800"/>
            <a:ext cx="76680" cy="76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7" name="TextBox 3"/>
          <p:cNvSpPr/>
          <p:nvPr/>
        </p:nvSpPr>
        <p:spPr>
          <a:xfrm>
            <a:off x="1828800" y="6211800"/>
            <a:ext cx="1219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јон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у раствор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7" descr="cybotactic region of ordered water molecules around a dissolved ion"/>
          <p:cNvPicPr/>
          <p:nvPr/>
        </p:nvPicPr>
        <p:blipFill>
          <a:blip r:embed="rId2"/>
          <a:srcRect l="0" t="0" r="47604" b="0"/>
          <a:stretch/>
        </p:blipFill>
        <p:spPr>
          <a:xfrm>
            <a:off x="4800600" y="4219560"/>
            <a:ext cx="3429000" cy="2638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24"/>
          <p:cNvSpPr/>
          <p:nvPr/>
        </p:nvSpPr>
        <p:spPr>
          <a:xfrm>
            <a:off x="7467480" y="4952880"/>
            <a:ext cx="128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920" rIns="43920" tIns="21960" bIns="21960"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900" spc="-1" strike="noStrike">
                <a:solidFill>
                  <a:srgbClr val="0066ff"/>
                </a:solidFill>
                <a:latin typeface="Arial"/>
                <a:ea typeface="Arial"/>
              </a:rPr>
              <a:t>П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  <a:ea typeface="Arial"/>
              </a:rPr>
              <a:t>рва примарн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4"/>
          <p:cNvSpPr/>
          <p:nvPr/>
        </p:nvSpPr>
        <p:spPr>
          <a:xfrm>
            <a:off x="7315200" y="4191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920" rIns="43920" tIns="21960" bIns="21960"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900" spc="-1" strike="noStrike">
                <a:solidFill>
                  <a:srgbClr val="0066ff"/>
                </a:solidFill>
                <a:latin typeface="Arial"/>
                <a:ea typeface="Arial"/>
              </a:rPr>
              <a:t>Д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  <a:ea typeface="Arial"/>
              </a:rPr>
              <a:t>руга секундарна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4"/>
          <p:cNvSpPr/>
          <p:nvPr/>
        </p:nvSpPr>
        <p:spPr>
          <a:xfrm>
            <a:off x="4114800" y="4191120"/>
            <a:ext cx="2290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920" rIns="43920" tIns="21960" bIns="21960"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900" spc="-1" strike="noStrike">
                <a:solidFill>
                  <a:srgbClr val="0066ff"/>
                </a:solidFill>
                <a:latin typeface="Arial"/>
                <a:ea typeface="Arial"/>
              </a:rPr>
              <a:t>Ј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  <a:ea typeface="Arial"/>
              </a:rPr>
              <a:t>он у воденом раствору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4"/>
          <p:cNvSpPr/>
          <p:nvPr/>
        </p:nvSpPr>
        <p:spPr>
          <a:xfrm>
            <a:off x="7620120" y="60199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920" rIns="43920" tIns="21960" bIns="2196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900" spc="-1" strike="noStrike">
                <a:solidFill>
                  <a:srgbClr val="0066ff"/>
                </a:solidFill>
                <a:latin typeface="Arial"/>
                <a:ea typeface="Arial"/>
              </a:rPr>
              <a:t>Р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  <a:ea typeface="Arial"/>
              </a:rPr>
              <a:t>астварач вод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4"/>
          <p:cNvSpPr/>
          <p:nvPr/>
        </p:nvSpPr>
        <p:spPr>
          <a:xfrm>
            <a:off x="5181480" y="365760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920" rIns="4392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66ff"/>
                </a:solidFill>
                <a:latin typeface="Arial"/>
                <a:ea typeface="Arial"/>
              </a:rPr>
              <a:t>координациона сфера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3. Дипол-дипол интерак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19080" y="2747880"/>
                <a:ext cx="253692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Box 36"/>
          <p:cNvSpPr/>
          <p:nvPr/>
        </p:nvSpPr>
        <p:spPr>
          <a:xfrm>
            <a:off x="0" y="40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 узајамног дејства два дипола зависи од њихових диполних момената и њиховог међусобног растојања на четврти степ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2819520" y="54864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негија интеракције између два поларна молекул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20520" y="5459400"/>
                <a:ext cx="25099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Rectangle 14"/>
          <p:cNvSpPr/>
          <p:nvPr/>
        </p:nvSpPr>
        <p:spPr>
          <a:xfrm>
            <a:off x="0" y="3808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нтера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ђумолекулска интеракција поларних 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6019920" y="6084720"/>
            <a:ext cx="24382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56160" tIns="28080" bIns="28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5 - 25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6480" y="1366920"/>
            <a:ext cx="3582000" cy="1236600"/>
            <a:chOff x="6480" y="1366920"/>
            <a:chExt cx="3582000" cy="1236600"/>
          </a:xfrm>
        </p:grpSpPr>
        <p:sp>
          <p:nvSpPr>
            <p:cNvPr id="142" name="Line 5"/>
            <p:cNvSpPr/>
            <p:nvPr/>
          </p:nvSpPr>
          <p:spPr>
            <a:xfrm>
              <a:off x="1154160" y="1914480"/>
              <a:ext cx="17748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6"/>
            <p:cNvGrpSpPr/>
            <p:nvPr/>
          </p:nvGrpSpPr>
          <p:grpSpPr>
            <a:xfrm>
              <a:off x="6480" y="1366920"/>
              <a:ext cx="1357920" cy="969840"/>
              <a:chOff x="6480" y="1366920"/>
              <a:chExt cx="1357920" cy="969840"/>
            </a:xfrm>
          </p:grpSpPr>
          <p:grpSp>
            <p:nvGrpSpPr>
              <p:cNvPr id="144" name="Group 7"/>
              <p:cNvGrpSpPr/>
              <p:nvPr/>
            </p:nvGrpSpPr>
            <p:grpSpPr>
              <a:xfrm>
                <a:off x="131760" y="1766880"/>
                <a:ext cx="1157400" cy="296640"/>
                <a:chOff x="131760" y="1766880"/>
                <a:chExt cx="1157400" cy="296640"/>
              </a:xfrm>
            </p:grpSpPr>
            <p:sp>
              <p:nvSpPr>
                <p:cNvPr id="145" name="Rectangle 8"/>
                <p:cNvSpPr/>
                <p:nvPr/>
              </p:nvSpPr>
              <p:spPr>
                <a:xfrm>
                  <a:off x="387360" y="1874880"/>
                  <a:ext cx="646200" cy="88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Oval 9"/>
                <p:cNvSpPr/>
                <p:nvPr/>
              </p:nvSpPr>
              <p:spPr>
                <a:xfrm>
                  <a:off x="131760" y="1766880"/>
                  <a:ext cx="282600" cy="28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10"/>
                <p:cNvSpPr/>
                <p:nvPr/>
              </p:nvSpPr>
              <p:spPr>
                <a:xfrm>
                  <a:off x="1006560" y="1781280"/>
                  <a:ext cx="282600" cy="28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7625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Text Box 11"/>
              <p:cNvSpPr/>
              <p:nvPr/>
            </p:nvSpPr>
            <p:spPr>
              <a:xfrm>
                <a:off x="6480" y="1377720"/>
                <a:ext cx="528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q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12"/>
              <p:cNvSpPr/>
              <p:nvPr/>
            </p:nvSpPr>
            <p:spPr>
              <a:xfrm>
                <a:off x="894240" y="1366920"/>
                <a:ext cx="47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q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Group 13"/>
              <p:cNvGrpSpPr/>
              <p:nvPr/>
            </p:nvGrpSpPr>
            <p:grpSpPr>
              <a:xfrm>
                <a:off x="241200" y="1968480"/>
                <a:ext cx="904680" cy="368280"/>
                <a:chOff x="241200" y="1968480"/>
                <a:chExt cx="904680" cy="368280"/>
              </a:xfrm>
            </p:grpSpPr>
            <p:sp>
              <p:nvSpPr>
                <p:cNvPr id="151" name="Text Box 14"/>
                <p:cNvSpPr/>
                <p:nvPr/>
              </p:nvSpPr>
              <p:spPr>
                <a:xfrm>
                  <a:off x="577440" y="196848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5"/>
                <p:cNvSpPr/>
                <p:nvPr/>
              </p:nvSpPr>
              <p:spPr>
                <a:xfrm flipH="1">
                  <a:off x="241200" y="2155680"/>
                  <a:ext cx="35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6"/>
                <p:cNvSpPr/>
                <p:nvPr/>
              </p:nvSpPr>
              <p:spPr>
                <a:xfrm>
                  <a:off x="795240" y="2168280"/>
                  <a:ext cx="35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" name="Group 17"/>
            <p:cNvGrpSpPr/>
            <p:nvPr/>
          </p:nvGrpSpPr>
          <p:grpSpPr>
            <a:xfrm>
              <a:off x="2230560" y="1382760"/>
              <a:ext cx="1357920" cy="969840"/>
              <a:chOff x="2230560" y="1382760"/>
              <a:chExt cx="1357920" cy="969840"/>
            </a:xfrm>
          </p:grpSpPr>
          <p:grpSp>
            <p:nvGrpSpPr>
              <p:cNvPr id="155" name="Group 18"/>
              <p:cNvGrpSpPr/>
              <p:nvPr/>
            </p:nvGrpSpPr>
            <p:grpSpPr>
              <a:xfrm>
                <a:off x="2355840" y="1782720"/>
                <a:ext cx="1157400" cy="296640"/>
                <a:chOff x="2355840" y="1782720"/>
                <a:chExt cx="1157400" cy="296640"/>
              </a:xfrm>
            </p:grpSpPr>
            <p:sp>
              <p:nvSpPr>
                <p:cNvPr id="156" name="Rectangle 19"/>
                <p:cNvSpPr/>
                <p:nvPr/>
              </p:nvSpPr>
              <p:spPr>
                <a:xfrm>
                  <a:off x="2611440" y="1890720"/>
                  <a:ext cx="646200" cy="88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Oval 20"/>
                <p:cNvSpPr/>
                <p:nvPr/>
              </p:nvSpPr>
              <p:spPr>
                <a:xfrm>
                  <a:off x="2355840" y="1782720"/>
                  <a:ext cx="282600" cy="28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21"/>
                <p:cNvSpPr/>
                <p:nvPr/>
              </p:nvSpPr>
              <p:spPr>
                <a:xfrm>
                  <a:off x="3230640" y="1797120"/>
                  <a:ext cx="282600" cy="28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7625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22"/>
              <p:cNvSpPr/>
              <p:nvPr/>
            </p:nvSpPr>
            <p:spPr>
              <a:xfrm>
                <a:off x="2230560" y="1393560"/>
                <a:ext cx="528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q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23"/>
              <p:cNvSpPr/>
              <p:nvPr/>
            </p:nvSpPr>
            <p:spPr>
              <a:xfrm>
                <a:off x="3118320" y="1382760"/>
                <a:ext cx="47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q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Group 24"/>
              <p:cNvGrpSpPr/>
              <p:nvPr/>
            </p:nvGrpSpPr>
            <p:grpSpPr>
              <a:xfrm>
                <a:off x="2465280" y="1984320"/>
                <a:ext cx="904680" cy="368280"/>
                <a:chOff x="2465280" y="1984320"/>
                <a:chExt cx="904680" cy="368280"/>
              </a:xfrm>
            </p:grpSpPr>
            <p:sp>
              <p:nvSpPr>
                <p:cNvPr id="162" name="Text Box 25"/>
                <p:cNvSpPr/>
                <p:nvPr/>
              </p:nvSpPr>
              <p:spPr>
                <a:xfrm>
                  <a:off x="2801520" y="19843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26"/>
                <p:cNvSpPr/>
                <p:nvPr/>
              </p:nvSpPr>
              <p:spPr>
                <a:xfrm flipH="1">
                  <a:off x="2465280" y="2171520"/>
                  <a:ext cx="35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27"/>
                <p:cNvSpPr/>
                <p:nvPr/>
              </p:nvSpPr>
              <p:spPr>
                <a:xfrm>
                  <a:off x="3019320" y="2184120"/>
                  <a:ext cx="35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Group 28"/>
            <p:cNvGrpSpPr/>
            <p:nvPr/>
          </p:nvGrpSpPr>
          <p:grpSpPr>
            <a:xfrm>
              <a:off x="752040" y="2235240"/>
              <a:ext cx="2243520" cy="368280"/>
              <a:chOff x="752040" y="2235240"/>
              <a:chExt cx="2243520" cy="368280"/>
            </a:xfrm>
          </p:grpSpPr>
          <p:sp>
            <p:nvSpPr>
              <p:cNvPr id="166" name="Text Box 29"/>
              <p:cNvSpPr/>
              <p:nvPr/>
            </p:nvSpPr>
            <p:spPr>
              <a:xfrm>
                <a:off x="1689120" y="2235240"/>
                <a:ext cx="72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30"/>
              <p:cNvSpPr/>
              <p:nvPr/>
            </p:nvSpPr>
            <p:spPr>
              <a:xfrm>
                <a:off x="2016000" y="2444760"/>
                <a:ext cx="9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31"/>
              <p:cNvSpPr/>
              <p:nvPr/>
            </p:nvSpPr>
            <p:spPr>
              <a:xfrm flipH="1">
                <a:off x="752040" y="2441520"/>
                <a:ext cx="92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Straight Connector 50"/>
          <p:cNvSpPr/>
          <p:nvPr/>
        </p:nvSpPr>
        <p:spPr>
          <a:xfrm>
            <a:off x="6019920" y="1981080"/>
            <a:ext cx="7142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5647680" y="11430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ивлачна 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2"/>
          <p:cNvSpPr/>
          <p:nvPr/>
        </p:nvSpPr>
        <p:spPr>
          <a:xfrm>
            <a:off x="3733920" y="1676520"/>
            <a:ext cx="2286000" cy="5713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962880" y="1747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556600" y="1747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5"/>
          <p:cNvSpPr/>
          <p:nvPr/>
        </p:nvSpPr>
        <p:spPr>
          <a:xfrm>
            <a:off x="6553080" y="1676520"/>
            <a:ext cx="2286000" cy="5713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630120" y="1747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8223840" y="1747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54"/>
          <p:cNvSpPr/>
          <p:nvPr/>
        </p:nvSpPr>
        <p:spPr>
          <a:xfrm>
            <a:off x="5977080" y="3281400"/>
            <a:ext cx="7142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1"/>
          <p:cNvSpPr/>
          <p:nvPr/>
        </p:nvSpPr>
        <p:spPr>
          <a:xfrm>
            <a:off x="5634000" y="24433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дбој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7"/>
          <p:cNvSpPr/>
          <p:nvPr/>
        </p:nvSpPr>
        <p:spPr>
          <a:xfrm>
            <a:off x="3691080" y="2976480"/>
            <a:ext cx="2286000" cy="5716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920040" y="3048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513760" y="30481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60"/>
          <p:cNvSpPr/>
          <p:nvPr/>
        </p:nvSpPr>
        <p:spPr>
          <a:xfrm rot="10800000">
            <a:off x="6510240" y="2976480"/>
            <a:ext cx="2286000" cy="5716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611040" y="30481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8160120" y="3048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4"/>
          <p:cNvSpPr/>
          <p:nvPr/>
        </p:nvSpPr>
        <p:spPr>
          <a:xfrm>
            <a:off x="0" y="457200"/>
            <a:ext cx="937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нтеракциј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5" descr="dipole"/>
          <p:cNvPicPr/>
          <p:nvPr/>
        </p:nvPicPr>
        <p:blipFill>
          <a:blip r:embed="rId1"/>
          <a:stretch/>
        </p:blipFill>
        <p:spPr>
          <a:xfrm>
            <a:off x="380880" y="3048120"/>
            <a:ext cx="3429000" cy="15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dipoledipole"/>
          <p:cNvPicPr/>
          <p:nvPr/>
        </p:nvPicPr>
        <p:blipFill>
          <a:blip r:embed="rId2"/>
          <a:stretch/>
        </p:blipFill>
        <p:spPr>
          <a:xfrm>
            <a:off x="4724280" y="609480"/>
            <a:ext cx="4419720" cy="4724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FG12_23-04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1295280"/>
            <a:ext cx="4022640" cy="1374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D:\documents\slike sa web 2013\f10.jpg"/>
          <p:cNvPicPr/>
          <p:nvPr/>
        </p:nvPicPr>
        <p:blipFill>
          <a:blip r:embed="rId5"/>
          <a:stretch/>
        </p:blipFill>
        <p:spPr>
          <a:xfrm>
            <a:off x="0" y="4724280"/>
            <a:ext cx="4854600" cy="2133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5"/>
          <p:cNvSpPr/>
          <p:nvPr/>
        </p:nvSpPr>
        <p:spPr>
          <a:xfrm>
            <a:off x="7033680" y="4495680"/>
            <a:ext cx="2100960" cy="3682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влачна 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010280" y="4876920"/>
            <a:ext cx="2133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бојна сил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1690200" y="68580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име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0014"/>
          <p:cNvPicPr/>
          <p:nvPr/>
        </p:nvPicPr>
        <p:blipFill>
          <a:blip r:embed="rId1"/>
          <a:stretch/>
        </p:blipFill>
        <p:spPr>
          <a:xfrm>
            <a:off x="380880" y="457200"/>
            <a:ext cx="7620120" cy="2666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0" y="388620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Дипол-дипол интеракција је привлачна сила између два перманентна дипола два поларна молек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 блиском контакту диполи се оријентишу тако да је негативни део једног молекула окренут ка позитивном делу другог молек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762120" y="129528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ПОЛ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ПОЛ ИНТЕРАКЦИЈ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БРОЈТЕ БАР ПЕТ ЈЕДИЊЕЊА КОЈЕ ОСТВАРУЈУ ДИПОЛ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ПОЛ ИНТЕРАКЦИЈ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 КОЈИХ ВЕЛИЧИНА ЋЕ ЗАВИСИТИ ЈАЧИНА ДИПОЛ-ДИПОЛ ИНТЕРАКЦИЈ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838080" y="31050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4. ВОДОНИЧН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ВЕЗ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пецијалн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лучај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интеракције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0" y="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ВОДОНИЧНА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ВЕЗ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Специјални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случај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нтеракције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0" y="1143000"/>
            <a:ext cx="5181480" cy="3863880"/>
            <a:chOff x="0" y="1143000"/>
            <a:chExt cx="5181480" cy="3863880"/>
          </a:xfrm>
        </p:grpSpPr>
        <p:sp>
          <p:nvSpPr>
            <p:cNvPr id="199" name="AutoShape 6"/>
            <p:cNvSpPr/>
            <p:nvPr/>
          </p:nvSpPr>
          <p:spPr>
            <a:xfrm>
              <a:off x="0" y="1218960"/>
              <a:ext cx="5181480" cy="37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442440" y="1446840"/>
              <a:ext cx="11685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- H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3100320" y="1522800"/>
              <a:ext cx="8492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:B 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>
              <a:off x="1859760" y="1750680"/>
              <a:ext cx="112608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531000" y="1143000"/>
              <a:ext cx="525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</a:t>
              </a:r>
              <a:r>
                <a:rPr b="1" lang="en-U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1239480" y="1143000"/>
              <a:ext cx="6364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</a:t>
              </a:r>
              <a:r>
                <a:rPr b="1" lang="en-U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277080" y="1218960"/>
              <a:ext cx="525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</a:t>
              </a:r>
              <a:r>
                <a:rPr b="1" lang="en-U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0" y="1752120"/>
              <a:ext cx="4163040" cy="9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rmAutofit fontScale="9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A, B </a:t>
              </a:r>
              <a:r>
                <a:rPr b="1" lang="sr-C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су:</a:t>
              </a:r>
              <a:r>
                <a:rPr b="1" lang="en-U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 N, O </a:t>
              </a:r>
              <a:r>
                <a:rPr b="1" lang="sr-C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или</a:t>
              </a:r>
              <a:r>
                <a:rPr b="1" lang="sr-Latn-C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21"/>
            <p:cNvGrpSpPr/>
            <p:nvPr/>
          </p:nvGrpSpPr>
          <p:grpSpPr>
            <a:xfrm>
              <a:off x="1666080" y="3371040"/>
              <a:ext cx="932040" cy="1635840"/>
              <a:chOff x="1666080" y="3371040"/>
              <a:chExt cx="932040" cy="1635840"/>
            </a:xfrm>
          </p:grpSpPr>
          <p:sp>
            <p:nvSpPr>
              <p:cNvPr id="208" name="Rectangle 23"/>
              <p:cNvSpPr/>
              <p:nvPr/>
            </p:nvSpPr>
            <p:spPr>
              <a:xfrm rot="4740000">
                <a:off x="1798920" y="3325680"/>
                <a:ext cx="4104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24"/>
              <p:cNvSpPr/>
              <p:nvPr/>
            </p:nvSpPr>
            <p:spPr>
              <a:xfrm rot="4740000">
                <a:off x="2054160" y="4442400"/>
                <a:ext cx="4104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Rectangle 32"/>
          <p:cNvSpPr/>
          <p:nvPr/>
        </p:nvSpPr>
        <p:spPr>
          <a:xfrm>
            <a:off x="4114800" y="609480"/>
            <a:ext cx="5486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веза се успоставља између два молекула или две групе у којима је атом водоника везан за неки електронегативнији атом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 поседује неспарен електронски парове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ао што су: F,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0" y="3962520"/>
            <a:ext cx="91440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и 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-А (А 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и елемен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е много бли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 само један електрон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ако да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-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ве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век полар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je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сут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 са другим молекулом ће се успоставити ако је B електронегативнији атом Н, О или 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5" descr=""/>
          <p:cNvPicPr/>
          <p:nvPr/>
        </p:nvPicPr>
        <p:blipFill>
          <a:blip r:embed="rId1"/>
          <a:srcRect l="0" t="0" r="92550" b="80522"/>
          <a:stretch/>
        </p:blipFill>
        <p:spPr>
          <a:xfrm>
            <a:off x="0" y="2971800"/>
            <a:ext cx="914400" cy="946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3" descr=""/>
          <p:cNvPicPr/>
          <p:nvPr/>
        </p:nvPicPr>
        <p:blipFill>
          <a:blip r:embed="rId2"/>
          <a:srcRect l="81993" t="9727" r="1252" b="67551"/>
          <a:stretch/>
        </p:blipFill>
        <p:spPr>
          <a:xfrm>
            <a:off x="1600200" y="2819520"/>
            <a:ext cx="1905120" cy="10922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1752480" y="76212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457200" y="0"/>
            <a:ext cx="8305920" cy="66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узет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кључ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 имају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-NH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FH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руп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3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њ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ом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мен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сеони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зо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луо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уч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ије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ник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онцентриса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електрис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ни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онцентриса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електрис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лач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га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о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F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-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е су веома јаке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  <a:ea typeface="Arial"/>
              </a:rPr>
              <a:t>10 - </a:t>
            </a:r>
            <a:r>
              <a:rPr b="1" lang="sr-CS" sz="3000" spc="-1" strike="noStrike">
                <a:solidFill>
                  <a:srgbClr val="0066ff"/>
                </a:solidFill>
                <a:latin typeface="Arial"/>
                <a:ea typeface="Arial"/>
              </a:rPr>
              <a:t>5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  <a:ea typeface="Arial"/>
              </a:rPr>
              <a:t>0 kJ/mo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ч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19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533520" y="510552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H-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38080" y="2514600"/>
            <a:ext cx="7086600" cy="2064600"/>
          </a:xfrm>
          <a:prstGeom prst="rect">
            <a:avLst/>
          </a:prstGeom>
          <a:solidFill>
            <a:srgbClr val="00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N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N-       F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N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O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O-       F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O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-        F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F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7162920" y="4191120"/>
            <a:ext cx="75960" cy="228600"/>
            <a:chOff x="7162920" y="4191120"/>
            <a:chExt cx="75960" cy="228600"/>
          </a:xfrm>
        </p:grpSpPr>
        <p:sp>
          <p:nvSpPr>
            <p:cNvPr id="219" name="Oval 6"/>
            <p:cNvSpPr/>
            <p:nvPr/>
          </p:nvSpPr>
          <p:spPr>
            <a:xfrm>
              <a:off x="7162920" y="4191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7"/>
            <p:cNvSpPr/>
            <p:nvPr/>
          </p:nvSpPr>
          <p:spPr>
            <a:xfrm>
              <a:off x="7162920" y="43434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8"/>
          <p:cNvGrpSpPr/>
          <p:nvPr/>
        </p:nvGrpSpPr>
        <p:grpSpPr>
          <a:xfrm>
            <a:off x="1981080" y="2666880"/>
            <a:ext cx="76320" cy="228600"/>
            <a:chOff x="1981080" y="2666880"/>
            <a:chExt cx="76320" cy="228600"/>
          </a:xfrm>
        </p:grpSpPr>
        <p:sp>
          <p:nvSpPr>
            <p:cNvPr id="222" name="Oval 9"/>
            <p:cNvSpPr/>
            <p:nvPr/>
          </p:nvSpPr>
          <p:spPr>
            <a:xfrm>
              <a:off x="1981080" y="26668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1981080" y="28191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4800600" y="2743200"/>
            <a:ext cx="76320" cy="228600"/>
            <a:chOff x="4800600" y="2743200"/>
            <a:chExt cx="76320" cy="228600"/>
          </a:xfrm>
        </p:grpSpPr>
        <p:sp>
          <p:nvSpPr>
            <p:cNvPr id="225" name="Oval 12"/>
            <p:cNvSpPr/>
            <p:nvPr/>
          </p:nvSpPr>
          <p:spPr>
            <a:xfrm>
              <a:off x="4800600" y="27432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3"/>
            <p:cNvSpPr/>
            <p:nvPr/>
          </p:nvSpPr>
          <p:spPr>
            <a:xfrm>
              <a:off x="4800600" y="28954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1981080" y="4191120"/>
            <a:ext cx="76320" cy="228600"/>
            <a:chOff x="1981080" y="4191120"/>
            <a:chExt cx="76320" cy="228600"/>
          </a:xfrm>
        </p:grpSpPr>
        <p:sp>
          <p:nvSpPr>
            <p:cNvPr id="228" name="Oval 15"/>
            <p:cNvSpPr/>
            <p:nvPr/>
          </p:nvSpPr>
          <p:spPr>
            <a:xfrm>
              <a:off x="1981080" y="41911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6"/>
            <p:cNvSpPr/>
            <p:nvPr/>
          </p:nvSpPr>
          <p:spPr>
            <a:xfrm>
              <a:off x="1981080" y="434340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7"/>
          <p:cNvGrpSpPr/>
          <p:nvPr/>
        </p:nvGrpSpPr>
        <p:grpSpPr>
          <a:xfrm>
            <a:off x="1981080" y="3429000"/>
            <a:ext cx="76320" cy="228600"/>
            <a:chOff x="1981080" y="3429000"/>
            <a:chExt cx="76320" cy="228600"/>
          </a:xfrm>
        </p:grpSpPr>
        <p:sp>
          <p:nvSpPr>
            <p:cNvPr id="231" name="Oval 18"/>
            <p:cNvSpPr/>
            <p:nvPr/>
          </p:nvSpPr>
          <p:spPr>
            <a:xfrm>
              <a:off x="1981080" y="34290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9"/>
            <p:cNvSpPr/>
            <p:nvPr/>
          </p:nvSpPr>
          <p:spPr>
            <a:xfrm>
              <a:off x="1981080" y="35812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0"/>
          <p:cNvGrpSpPr/>
          <p:nvPr/>
        </p:nvGrpSpPr>
        <p:grpSpPr>
          <a:xfrm>
            <a:off x="4724280" y="4191120"/>
            <a:ext cx="76320" cy="228600"/>
            <a:chOff x="4724280" y="4191120"/>
            <a:chExt cx="76320" cy="228600"/>
          </a:xfrm>
        </p:grpSpPr>
        <p:sp>
          <p:nvSpPr>
            <p:cNvPr id="234" name="Oval 21"/>
            <p:cNvSpPr/>
            <p:nvPr/>
          </p:nvSpPr>
          <p:spPr>
            <a:xfrm>
              <a:off x="4724280" y="41911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2"/>
            <p:cNvSpPr/>
            <p:nvPr/>
          </p:nvSpPr>
          <p:spPr>
            <a:xfrm>
              <a:off x="4724280" y="434340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3"/>
          <p:cNvGrpSpPr/>
          <p:nvPr/>
        </p:nvGrpSpPr>
        <p:grpSpPr>
          <a:xfrm>
            <a:off x="4800600" y="3429000"/>
            <a:ext cx="76320" cy="228600"/>
            <a:chOff x="4800600" y="3429000"/>
            <a:chExt cx="76320" cy="228600"/>
          </a:xfrm>
        </p:grpSpPr>
        <p:sp>
          <p:nvSpPr>
            <p:cNvPr id="237" name="Oval 24"/>
            <p:cNvSpPr/>
            <p:nvPr/>
          </p:nvSpPr>
          <p:spPr>
            <a:xfrm>
              <a:off x="4800600" y="34290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5"/>
            <p:cNvSpPr/>
            <p:nvPr/>
          </p:nvSpPr>
          <p:spPr>
            <a:xfrm>
              <a:off x="4800600" y="35812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6"/>
          <p:cNvGrpSpPr/>
          <p:nvPr/>
        </p:nvGrpSpPr>
        <p:grpSpPr>
          <a:xfrm>
            <a:off x="7238880" y="3429000"/>
            <a:ext cx="76320" cy="228600"/>
            <a:chOff x="7238880" y="3429000"/>
            <a:chExt cx="76320" cy="228600"/>
          </a:xfrm>
        </p:grpSpPr>
        <p:sp>
          <p:nvSpPr>
            <p:cNvPr id="240" name="Oval 27"/>
            <p:cNvSpPr/>
            <p:nvPr/>
          </p:nvSpPr>
          <p:spPr>
            <a:xfrm>
              <a:off x="7238880" y="34290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8"/>
            <p:cNvSpPr/>
            <p:nvPr/>
          </p:nvSpPr>
          <p:spPr>
            <a:xfrm>
              <a:off x="7238880" y="35812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9"/>
          <p:cNvGrpSpPr/>
          <p:nvPr/>
        </p:nvGrpSpPr>
        <p:grpSpPr>
          <a:xfrm>
            <a:off x="7238880" y="2666880"/>
            <a:ext cx="76320" cy="228600"/>
            <a:chOff x="7238880" y="2666880"/>
            <a:chExt cx="76320" cy="228600"/>
          </a:xfrm>
        </p:grpSpPr>
        <p:sp>
          <p:nvSpPr>
            <p:cNvPr id="243" name="Oval 30"/>
            <p:cNvSpPr/>
            <p:nvPr/>
          </p:nvSpPr>
          <p:spPr>
            <a:xfrm>
              <a:off x="7238880" y="26668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1"/>
            <p:cNvSpPr/>
            <p:nvPr/>
          </p:nvSpPr>
          <p:spPr>
            <a:xfrm>
              <a:off x="7238880" y="28191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32"/>
          <p:cNvSpPr/>
          <p:nvPr/>
        </p:nvSpPr>
        <p:spPr>
          <a:xfrm>
            <a:off x="533520" y="4952880"/>
            <a:ext cx="68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3"/>
          <p:cNvSpPr/>
          <p:nvPr/>
        </p:nvSpPr>
        <p:spPr>
          <a:xfrm flipV="1">
            <a:off x="914400" y="449568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4"/>
          <p:cNvSpPr/>
          <p:nvPr/>
        </p:nvSpPr>
        <p:spPr>
          <a:xfrm>
            <a:off x="2438280" y="502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5"/>
          <p:cNvSpPr/>
          <p:nvPr/>
        </p:nvSpPr>
        <p:spPr>
          <a:xfrm flipH="1" flipV="1">
            <a:off x="2057400" y="449568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6"/>
          <p:cNvSpPr/>
          <p:nvPr/>
        </p:nvSpPr>
        <p:spPr>
          <a:xfrm>
            <a:off x="3200400" y="472428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хте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паре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н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исо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негативн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мен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8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ВОДОНИЧНА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ВЕЗ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се формира када се водоник везује за електонегативни атом друг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х молеку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3" descr=""/>
          <p:cNvPicPr/>
          <p:nvPr/>
        </p:nvPicPr>
        <p:blipFill>
          <a:blip r:embed="rId1"/>
          <a:srcRect l="81993" t="9727" r="1252" b="67551"/>
          <a:stretch/>
        </p:blipFill>
        <p:spPr>
          <a:xfrm>
            <a:off x="4191120" y="1295280"/>
            <a:ext cx="1904760" cy="1092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5" descr=""/>
          <p:cNvPicPr/>
          <p:nvPr/>
        </p:nvPicPr>
        <p:blipFill>
          <a:blip r:embed="rId2"/>
          <a:srcRect l="0" t="0" r="92550" b="80522"/>
          <a:stretch/>
        </p:blipFill>
        <p:spPr>
          <a:xfrm>
            <a:off x="1371600" y="1600200"/>
            <a:ext cx="91440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4038480"/>
            <a:ext cx="8458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е сил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спостављају интеракције између молеку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е групе одређују тип и јачину интеракци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04920" y="6094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нута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увек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лектростатич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иро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зајамн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еј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чести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оје носе наелектрисања изража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у 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штем случају неким обликом Кулоновог зако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8" descr="H2Odipole"/>
          <p:cNvPicPr/>
          <p:nvPr/>
        </p:nvPicPr>
        <p:blipFill>
          <a:blip r:embed="rId1"/>
          <a:stretch/>
        </p:blipFill>
        <p:spPr>
          <a:xfrm>
            <a:off x="3809880" y="444348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intermolekulske sile.jpg"/>
          <p:cNvPicPr/>
          <p:nvPr/>
        </p:nvPicPr>
        <p:blipFill>
          <a:blip r:embed="rId2"/>
          <a:stretch/>
        </p:blipFill>
        <p:spPr>
          <a:xfrm>
            <a:off x="6095880" y="762120"/>
            <a:ext cx="3048120" cy="2133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ВОДОНИЧНА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ВЕЗ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између молекула воде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1"/>
          <p:cNvSpPr/>
          <p:nvPr/>
        </p:nvSpPr>
        <p:spPr>
          <a:xfrm>
            <a:off x="0" y="6334200"/>
            <a:ext cx="91440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статич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5" descr="0002"/>
          <p:cNvPicPr/>
          <p:nvPr/>
        </p:nvPicPr>
        <p:blipFill>
          <a:blip r:embed="rId3"/>
          <a:stretch/>
        </p:blipFill>
        <p:spPr>
          <a:xfrm>
            <a:off x="0" y="685800"/>
            <a:ext cx="4724280" cy="183204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5"/>
          <p:cNvGrpSpPr/>
          <p:nvPr/>
        </p:nvGrpSpPr>
        <p:grpSpPr>
          <a:xfrm>
            <a:off x="203040" y="2391120"/>
            <a:ext cx="3083400" cy="1290960"/>
            <a:chOff x="203040" y="2391120"/>
            <a:chExt cx="3083400" cy="1290960"/>
          </a:xfrm>
        </p:grpSpPr>
        <p:grpSp>
          <p:nvGrpSpPr>
            <p:cNvPr id="259" name="Group 15"/>
            <p:cNvGrpSpPr/>
            <p:nvPr/>
          </p:nvGrpSpPr>
          <p:grpSpPr>
            <a:xfrm>
              <a:off x="1771560" y="2512080"/>
              <a:ext cx="1514880" cy="1114560"/>
              <a:chOff x="1771560" y="2512080"/>
              <a:chExt cx="1514880" cy="1114560"/>
            </a:xfrm>
          </p:grpSpPr>
          <p:sp>
            <p:nvSpPr>
              <p:cNvPr id="260" name="Rectangle 16"/>
              <p:cNvSpPr/>
              <p:nvPr/>
            </p:nvSpPr>
            <p:spPr>
              <a:xfrm rot="2040000">
                <a:off x="2576160" y="2598120"/>
                <a:ext cx="4330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7"/>
              <p:cNvSpPr/>
              <p:nvPr/>
            </p:nvSpPr>
            <p:spPr>
              <a:xfrm rot="2040000">
                <a:off x="1850760" y="2638440"/>
                <a:ext cx="41184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8"/>
              <p:cNvSpPr/>
              <p:nvPr/>
            </p:nvSpPr>
            <p:spPr>
              <a:xfrm rot="2040000">
                <a:off x="2795400" y="3137040"/>
                <a:ext cx="41184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9"/>
              <p:cNvSpPr/>
              <p:nvPr/>
            </p:nvSpPr>
            <p:spPr>
              <a:xfrm>
                <a:off x="2306880" y="2761920"/>
                <a:ext cx="252720" cy="25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20"/>
              <p:cNvSpPr/>
              <p:nvPr/>
            </p:nvSpPr>
            <p:spPr>
              <a:xfrm flipH="1" flipV="1">
                <a:off x="2890800" y="2961720"/>
                <a:ext cx="124560" cy="17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21"/>
            <p:cNvGrpSpPr/>
            <p:nvPr/>
          </p:nvGrpSpPr>
          <p:grpSpPr>
            <a:xfrm>
              <a:off x="203040" y="2391120"/>
              <a:ext cx="1137240" cy="1290960"/>
              <a:chOff x="203040" y="2391120"/>
              <a:chExt cx="1137240" cy="1290960"/>
            </a:xfrm>
          </p:grpSpPr>
          <p:sp>
            <p:nvSpPr>
              <p:cNvPr id="266" name="Rectangle 22"/>
              <p:cNvSpPr/>
              <p:nvPr/>
            </p:nvSpPr>
            <p:spPr>
              <a:xfrm rot="4740000">
                <a:off x="881280" y="2714760"/>
                <a:ext cx="33804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 fontScale="79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23"/>
              <p:cNvSpPr/>
              <p:nvPr/>
            </p:nvSpPr>
            <p:spPr>
              <a:xfrm rot="4740000">
                <a:off x="330480" y="2336400"/>
                <a:ext cx="32148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 fontScale="76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24"/>
              <p:cNvSpPr/>
              <p:nvPr/>
            </p:nvSpPr>
            <p:spPr>
              <a:xfrm rot="4740000">
                <a:off x="550080" y="3211560"/>
                <a:ext cx="32148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 fontScale="76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5"/>
              <p:cNvSpPr/>
              <p:nvPr/>
            </p:nvSpPr>
            <p:spPr>
              <a:xfrm>
                <a:off x="743040" y="2680200"/>
                <a:ext cx="155160" cy="158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6"/>
              <p:cNvSpPr/>
              <p:nvPr/>
            </p:nvSpPr>
            <p:spPr>
              <a:xfrm flipV="1">
                <a:off x="906480" y="3143520"/>
                <a:ext cx="67320" cy="1918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Line 27"/>
            <p:cNvSpPr/>
            <p:nvPr/>
          </p:nvSpPr>
          <p:spPr>
            <a:xfrm flipV="1">
              <a:off x="1327320" y="2873520"/>
              <a:ext cx="474120" cy="7200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29" descr="h2ohbond"/>
          <p:cNvPicPr/>
          <p:nvPr/>
        </p:nvPicPr>
        <p:blipFill>
          <a:blip r:embed="rId4"/>
          <a:stretch/>
        </p:blipFill>
        <p:spPr>
          <a:xfrm>
            <a:off x="0" y="3962520"/>
            <a:ext cx="3581280" cy="19731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2"/>
          <p:cNvSpPr/>
          <p:nvPr/>
        </p:nvSpPr>
        <p:spPr>
          <a:xfrm>
            <a:off x="0" y="457200"/>
            <a:ext cx="2971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3505320" y="167652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914400" y="3733920"/>
            <a:ext cx="2971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3886200" y="2209680"/>
            <a:ext cx="52578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л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ул воде интерагује остварујући више водоничних веза са окружујућим молекулим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41"/>
          <p:cNvCxnSpPr>
            <a:stCxn id="275" idx="0"/>
          </p:cNvCxnSpPr>
          <p:nvPr/>
        </p:nvCxnSpPr>
        <p:spPr>
          <a:xfrm flipH="1" flipV="1">
            <a:off x="1675800" y="3123720"/>
            <a:ext cx="724680" cy="610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8" name="Straight Arrow Connector 43"/>
          <p:cNvCxnSpPr>
            <a:stCxn id="275" idx="2"/>
          </p:cNvCxnSpPr>
          <p:nvPr/>
        </p:nvCxnSpPr>
        <p:spPr>
          <a:xfrm flipH="1">
            <a:off x="1828440" y="4343040"/>
            <a:ext cx="572400" cy="153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79" name="Picture 3" descr="hydrogenbond"/>
          <p:cNvPicPr/>
          <p:nvPr/>
        </p:nvPicPr>
        <p:blipFill>
          <a:blip r:embed="rId5"/>
          <a:stretch/>
        </p:blipFill>
        <p:spPr>
          <a:xfrm>
            <a:off x="5715000" y="3809880"/>
            <a:ext cx="30081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rcRect l="0" t="24689" r="0" b="24855"/>
          <a:stretch/>
        </p:blipFill>
        <p:spPr>
          <a:xfrm>
            <a:off x="609480" y="1447920"/>
            <a:ext cx="7607520" cy="2879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2609640" cy="1709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3"/>
          <a:stretch/>
        </p:blipFill>
        <p:spPr>
          <a:xfrm>
            <a:off x="5181480" y="4800600"/>
            <a:ext cx="2575080" cy="1692360"/>
          </a:xfrm>
          <a:prstGeom prst="rect">
            <a:avLst/>
          </a:prstGeom>
          <a:ln w="0">
            <a:noFill/>
          </a:ln>
        </p:spPr>
      </p:pic>
      <p:sp>
        <p:nvSpPr>
          <p:cNvPr id="283" name="Line 9"/>
          <p:cNvSpPr/>
          <p:nvPr/>
        </p:nvSpPr>
        <p:spPr>
          <a:xfrm flipH="1">
            <a:off x="2133360" y="4038480"/>
            <a:ext cx="2971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3048120" y="380988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3657600" y="3581280"/>
            <a:ext cx="20574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5791320" y="4038480"/>
            <a:ext cx="3045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Водонична веза може бити: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донорска или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акцептор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438280" y="1066680"/>
            <a:ext cx="2971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6705720" y="1143000"/>
            <a:ext cx="2438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4080960" y="6334200"/>
            <a:ext cx="50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имери: вода и амонија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0024a"/>
          <p:cNvPicPr/>
          <p:nvPr/>
        </p:nvPicPr>
        <p:blipFill>
          <a:blip r:embed="rId1"/>
          <a:stretch/>
        </p:blipFill>
        <p:spPr>
          <a:xfrm>
            <a:off x="457200" y="1219320"/>
            <a:ext cx="5562720" cy="33512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"/>
          <p:cNvSpPr/>
          <p:nvPr/>
        </p:nvSpPr>
        <p:spPr>
          <a:xfrm>
            <a:off x="29520" y="0"/>
            <a:ext cx="75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имер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успостављања водоничних ве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да и ацетон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4572000" y="2209680"/>
            <a:ext cx="2971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380880" y="1447920"/>
            <a:ext cx="2971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0" y="4191120"/>
            <a:ext cx="8458200" cy="14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змеђу воде и ацето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се успостваља тако је вода донор а ацетон акцептор водоника, формирање ове вез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узрокује мешљивост ове две супстанц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4952880" y="3276720"/>
            <a:ext cx="10670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562720" y="1295280"/>
            <a:ext cx="16761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3"/>
          <p:cNvGrpSpPr/>
          <p:nvPr/>
        </p:nvGrpSpPr>
        <p:grpSpPr>
          <a:xfrm>
            <a:off x="685800" y="2819520"/>
            <a:ext cx="2179800" cy="2149560"/>
            <a:chOff x="685800" y="2819520"/>
            <a:chExt cx="2179800" cy="2149560"/>
          </a:xfrm>
        </p:grpSpPr>
        <p:sp>
          <p:nvSpPr>
            <p:cNvPr id="299" name="Rectangle 4"/>
            <p:cNvSpPr/>
            <p:nvPr/>
          </p:nvSpPr>
          <p:spPr>
            <a:xfrm>
              <a:off x="2286000" y="3581280"/>
              <a:ext cx="579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5"/>
            <p:cNvSpPr/>
            <p:nvPr/>
          </p:nvSpPr>
          <p:spPr>
            <a:xfrm>
              <a:off x="1235160" y="393192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"/>
            <p:cNvSpPr/>
            <p:nvPr/>
          </p:nvSpPr>
          <p:spPr>
            <a:xfrm>
              <a:off x="1692360" y="339876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7"/>
            <p:cNvSpPr/>
            <p:nvPr/>
          </p:nvSpPr>
          <p:spPr>
            <a:xfrm>
              <a:off x="1692360" y="416052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8"/>
            <p:cNvGrpSpPr/>
            <p:nvPr/>
          </p:nvGrpSpPr>
          <p:grpSpPr>
            <a:xfrm>
              <a:off x="685800" y="2819520"/>
              <a:ext cx="2151000" cy="2149560"/>
              <a:chOff x="685800" y="2819520"/>
              <a:chExt cx="2151000" cy="2149560"/>
            </a:xfrm>
          </p:grpSpPr>
          <p:grpSp>
            <p:nvGrpSpPr>
              <p:cNvPr id="304" name="Group 9"/>
              <p:cNvGrpSpPr/>
              <p:nvPr/>
            </p:nvGrpSpPr>
            <p:grpSpPr>
              <a:xfrm>
                <a:off x="685800" y="2819520"/>
                <a:ext cx="1312920" cy="2149560"/>
                <a:chOff x="685800" y="2819520"/>
                <a:chExt cx="1312920" cy="2149560"/>
              </a:xfrm>
            </p:grpSpPr>
            <p:sp>
              <p:nvSpPr>
                <p:cNvPr id="305" name="Rectangle 10"/>
                <p:cNvSpPr/>
                <p:nvPr/>
              </p:nvSpPr>
              <p:spPr>
                <a:xfrm>
                  <a:off x="1447920" y="3581280"/>
                  <a:ext cx="5508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11"/>
                <p:cNvSpPr/>
                <p:nvPr/>
              </p:nvSpPr>
              <p:spPr>
                <a:xfrm>
                  <a:off x="685800" y="3581280"/>
                  <a:ext cx="5508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12"/>
                <p:cNvSpPr/>
                <p:nvPr/>
              </p:nvSpPr>
              <p:spPr>
                <a:xfrm>
                  <a:off x="1447920" y="2819520"/>
                  <a:ext cx="5508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13"/>
                <p:cNvSpPr/>
                <p:nvPr/>
              </p:nvSpPr>
              <p:spPr>
                <a:xfrm>
                  <a:off x="1447920" y="4267080"/>
                  <a:ext cx="5508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Rectangle 14"/>
              <p:cNvSpPr/>
              <p:nvPr/>
            </p:nvSpPr>
            <p:spPr>
              <a:xfrm>
                <a:off x="2286000" y="2819520"/>
                <a:ext cx="5508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5"/>
              <p:cNvSpPr/>
              <p:nvPr/>
            </p:nvSpPr>
            <p:spPr>
              <a:xfrm>
                <a:off x="1997280" y="3931920"/>
                <a:ext cx="2286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16"/>
              <p:cNvSpPr/>
              <p:nvPr/>
            </p:nvSpPr>
            <p:spPr>
              <a:xfrm flipV="1">
                <a:off x="2568600" y="3360600"/>
                <a:ext cx="0" cy="228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7"/>
              <p:cNvSpPr/>
              <p:nvPr/>
            </p:nvSpPr>
            <p:spPr>
              <a:xfrm>
                <a:off x="2361600" y="3733560"/>
                <a:ext cx="46836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Rectangle 18"/>
          <p:cNvSpPr/>
          <p:nvPr/>
        </p:nvSpPr>
        <p:spPr>
          <a:xfrm rot="5400000">
            <a:off x="2799360" y="358128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9"/>
          <p:cNvSpPr/>
          <p:nvPr/>
        </p:nvSpPr>
        <p:spPr>
          <a:xfrm flipH="1">
            <a:off x="5332320" y="434340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0"/>
          <p:cNvSpPr/>
          <p:nvPr/>
        </p:nvSpPr>
        <p:spPr>
          <a:xfrm flipH="1">
            <a:off x="4570560" y="358128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1"/>
          <p:cNvSpPr/>
          <p:nvPr/>
        </p:nvSpPr>
        <p:spPr>
          <a:xfrm flipH="1">
            <a:off x="4570560" y="502920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2"/>
          <p:cNvSpPr/>
          <p:nvPr/>
        </p:nvSpPr>
        <p:spPr>
          <a:xfrm flipH="1">
            <a:off x="3732120" y="358128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3"/>
          <p:cNvSpPr/>
          <p:nvPr/>
        </p:nvSpPr>
        <p:spPr>
          <a:xfrm flipH="1">
            <a:off x="4343040" y="4694400"/>
            <a:ext cx="228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4"/>
          <p:cNvSpPr/>
          <p:nvPr/>
        </p:nvSpPr>
        <p:spPr>
          <a:xfrm flipV="1">
            <a:off x="4000680" y="412236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5"/>
          <p:cNvSpPr/>
          <p:nvPr/>
        </p:nvSpPr>
        <p:spPr>
          <a:xfrm flipH="1">
            <a:off x="3738600" y="449568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6"/>
          <p:cNvSpPr/>
          <p:nvPr/>
        </p:nvSpPr>
        <p:spPr>
          <a:xfrm>
            <a:off x="3733920" y="434340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7"/>
          <p:cNvSpPr/>
          <p:nvPr/>
        </p:nvSpPr>
        <p:spPr>
          <a:xfrm rot="5400000">
            <a:off x="3656160" y="434304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8"/>
          <p:cNvSpPr/>
          <p:nvPr/>
        </p:nvSpPr>
        <p:spPr>
          <a:xfrm>
            <a:off x="5121360" y="4694400"/>
            <a:ext cx="228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9"/>
          <p:cNvSpPr/>
          <p:nvPr/>
        </p:nvSpPr>
        <p:spPr>
          <a:xfrm flipV="1">
            <a:off x="4854600" y="412236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0"/>
          <p:cNvSpPr/>
          <p:nvPr/>
        </p:nvSpPr>
        <p:spPr>
          <a:xfrm flipV="1">
            <a:off x="4854600" y="488448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>
            <a:off x="4572000" y="434340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2"/>
          <p:cNvSpPr/>
          <p:nvPr/>
        </p:nvSpPr>
        <p:spPr>
          <a:xfrm>
            <a:off x="3006720" y="3932280"/>
            <a:ext cx="666720" cy="0"/>
          </a:xfrm>
          <a:prstGeom prst="line">
            <a:avLst/>
          </a:prstGeom>
          <a:ln w="507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3"/>
          <p:cNvGrpSpPr/>
          <p:nvPr/>
        </p:nvGrpSpPr>
        <p:grpSpPr>
          <a:xfrm>
            <a:off x="1343520" y="5100120"/>
            <a:ext cx="2077200" cy="1312920"/>
            <a:chOff x="1343520" y="5100120"/>
            <a:chExt cx="2077200" cy="1312920"/>
          </a:xfrm>
        </p:grpSpPr>
        <p:sp>
          <p:nvSpPr>
            <p:cNvPr id="329" name="Rectangle 34"/>
            <p:cNvSpPr/>
            <p:nvPr/>
          </p:nvSpPr>
          <p:spPr>
            <a:xfrm rot="10792800">
              <a:off x="2079000" y="5710320"/>
              <a:ext cx="579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5"/>
            <p:cNvSpPr/>
            <p:nvPr/>
          </p:nvSpPr>
          <p:spPr>
            <a:xfrm rot="10792800">
              <a:off x="2868840" y="510048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6"/>
            <p:cNvSpPr/>
            <p:nvPr/>
          </p:nvSpPr>
          <p:spPr>
            <a:xfrm rot="10792800">
              <a:off x="1343880" y="510192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37"/>
            <p:cNvSpPr/>
            <p:nvPr/>
          </p:nvSpPr>
          <p:spPr>
            <a:xfrm flipH="1">
              <a:off x="2641680" y="5754960"/>
              <a:ext cx="304200" cy="15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8"/>
            <p:cNvSpPr/>
            <p:nvPr/>
          </p:nvSpPr>
          <p:spPr>
            <a:xfrm>
              <a:off x="1803240" y="5756760"/>
              <a:ext cx="304200" cy="15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Line 39"/>
          <p:cNvSpPr/>
          <p:nvPr/>
        </p:nvSpPr>
        <p:spPr>
          <a:xfrm flipV="1">
            <a:off x="3159000" y="4846680"/>
            <a:ext cx="438120" cy="247680"/>
          </a:xfrm>
          <a:prstGeom prst="line">
            <a:avLst/>
          </a:prstGeom>
          <a:ln w="507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40"/>
          <p:cNvGrpSpPr/>
          <p:nvPr/>
        </p:nvGrpSpPr>
        <p:grpSpPr>
          <a:xfrm>
            <a:off x="2816640" y="1866240"/>
            <a:ext cx="2077200" cy="1312920"/>
            <a:chOff x="2816640" y="1866240"/>
            <a:chExt cx="2077200" cy="1312920"/>
          </a:xfrm>
        </p:grpSpPr>
        <p:sp>
          <p:nvSpPr>
            <p:cNvPr id="336" name="Rectangle 41"/>
            <p:cNvSpPr/>
            <p:nvPr/>
          </p:nvSpPr>
          <p:spPr>
            <a:xfrm rot="10792800">
              <a:off x="3552120" y="2476440"/>
              <a:ext cx="579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2"/>
            <p:cNvSpPr/>
            <p:nvPr/>
          </p:nvSpPr>
          <p:spPr>
            <a:xfrm rot="10792800">
              <a:off x="4341960" y="186660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3"/>
            <p:cNvSpPr/>
            <p:nvPr/>
          </p:nvSpPr>
          <p:spPr>
            <a:xfrm rot="10792800">
              <a:off x="2817000" y="186804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44"/>
            <p:cNvSpPr/>
            <p:nvPr/>
          </p:nvSpPr>
          <p:spPr>
            <a:xfrm flipH="1">
              <a:off x="4114800" y="2521080"/>
              <a:ext cx="304200" cy="15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5"/>
            <p:cNvSpPr/>
            <p:nvPr/>
          </p:nvSpPr>
          <p:spPr>
            <a:xfrm>
              <a:off x="3276360" y="2522880"/>
              <a:ext cx="304200" cy="15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Line 46"/>
          <p:cNvSpPr/>
          <p:nvPr/>
        </p:nvSpPr>
        <p:spPr>
          <a:xfrm flipV="1">
            <a:off x="2968560" y="3089160"/>
            <a:ext cx="438120" cy="100080"/>
          </a:xfrm>
          <a:prstGeom prst="line">
            <a:avLst/>
          </a:prstGeom>
          <a:ln w="507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7"/>
          <p:cNvSpPr/>
          <p:nvPr/>
        </p:nvSpPr>
        <p:spPr>
          <a:xfrm>
            <a:off x="0" y="838080"/>
            <a:ext cx="9296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Н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-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веза постоји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између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молекула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метанола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али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између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метанола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воде, зато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су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ове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две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супстанце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мешљив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0"/>
          <p:cNvSpPr/>
          <p:nvPr/>
        </p:nvSpPr>
        <p:spPr>
          <a:xfrm rot="13543800">
            <a:off x="3292920" y="287568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1"/>
          <p:cNvSpPr/>
          <p:nvPr/>
        </p:nvSpPr>
        <p:spPr>
          <a:xfrm rot="7321200">
            <a:off x="4005000" y="279504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2"/>
          <p:cNvSpPr/>
          <p:nvPr/>
        </p:nvSpPr>
        <p:spPr>
          <a:xfrm rot="13543800">
            <a:off x="1716480" y="605376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3"/>
          <p:cNvSpPr/>
          <p:nvPr/>
        </p:nvSpPr>
        <p:spPr>
          <a:xfrm rot="7321200">
            <a:off x="2553840" y="597780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имер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успостављања водоничних ве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да и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метано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1050840" y="2977560"/>
            <a:ext cx="7026120" cy="3210480"/>
            <a:chOff x="1050840" y="2977560"/>
            <a:chExt cx="7026120" cy="3210480"/>
          </a:xfrm>
        </p:grpSpPr>
        <p:grpSp>
          <p:nvGrpSpPr>
            <p:cNvPr id="349" name="Group 3"/>
            <p:cNvGrpSpPr/>
            <p:nvPr/>
          </p:nvGrpSpPr>
          <p:grpSpPr>
            <a:xfrm>
              <a:off x="1050840" y="3504960"/>
              <a:ext cx="1312920" cy="2149560"/>
              <a:chOff x="1050840" y="3504960"/>
              <a:chExt cx="1312920" cy="2149560"/>
            </a:xfrm>
          </p:grpSpPr>
          <p:sp>
            <p:nvSpPr>
              <p:cNvPr id="350" name="Rectangle 4"/>
              <p:cNvSpPr/>
              <p:nvPr/>
            </p:nvSpPr>
            <p:spPr>
              <a:xfrm>
                <a:off x="1812960" y="4266720"/>
                <a:ext cx="5508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"/>
              <p:cNvSpPr/>
              <p:nvPr/>
            </p:nvSpPr>
            <p:spPr>
              <a:xfrm>
                <a:off x="1050840" y="4266720"/>
                <a:ext cx="5508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6"/>
              <p:cNvSpPr/>
              <p:nvPr/>
            </p:nvSpPr>
            <p:spPr>
              <a:xfrm>
                <a:off x="1812960" y="3504960"/>
                <a:ext cx="5508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7"/>
              <p:cNvSpPr/>
              <p:nvPr/>
            </p:nvSpPr>
            <p:spPr>
              <a:xfrm>
                <a:off x="1812960" y="4952520"/>
                <a:ext cx="5508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Line 8"/>
            <p:cNvSpPr/>
            <p:nvPr/>
          </p:nvSpPr>
          <p:spPr>
            <a:xfrm>
              <a:off x="2361960" y="461772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"/>
            <p:cNvSpPr/>
            <p:nvPr/>
          </p:nvSpPr>
          <p:spPr>
            <a:xfrm>
              <a:off x="2095560" y="488448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"/>
            <p:cNvSpPr/>
            <p:nvPr/>
          </p:nvSpPr>
          <p:spPr>
            <a:xfrm>
              <a:off x="2095560" y="404640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>
              <a:off x="1600200" y="461772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2651040" y="426708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3"/>
            <p:cNvSpPr/>
            <p:nvPr/>
          </p:nvSpPr>
          <p:spPr>
            <a:xfrm rot="8460000">
              <a:off x="2955960" y="3961440"/>
              <a:ext cx="480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4"/>
            <p:cNvSpPr/>
            <p:nvPr/>
          </p:nvSpPr>
          <p:spPr>
            <a:xfrm>
              <a:off x="3260520" y="3809880"/>
              <a:ext cx="579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"/>
            <p:cNvSpPr/>
            <p:nvPr/>
          </p:nvSpPr>
          <p:spPr>
            <a:xfrm rot="19260000">
              <a:off x="3030840" y="3428280"/>
              <a:ext cx="468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6"/>
            <p:cNvSpPr/>
            <p:nvPr/>
          </p:nvSpPr>
          <p:spPr>
            <a:xfrm rot="19260000">
              <a:off x="3412080" y="3885480"/>
              <a:ext cx="468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7"/>
            <p:cNvSpPr/>
            <p:nvPr/>
          </p:nvSpPr>
          <p:spPr>
            <a:xfrm>
              <a:off x="3124080" y="4846320"/>
              <a:ext cx="15228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8"/>
            <p:cNvSpPr/>
            <p:nvPr/>
          </p:nvSpPr>
          <p:spPr>
            <a:xfrm>
              <a:off x="3260520" y="472428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9"/>
            <p:cNvSpPr/>
            <p:nvPr/>
          </p:nvSpPr>
          <p:spPr>
            <a:xfrm>
              <a:off x="3809880" y="507492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0"/>
            <p:cNvSpPr/>
            <p:nvPr/>
          </p:nvSpPr>
          <p:spPr>
            <a:xfrm>
              <a:off x="4022640" y="472428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1"/>
            <p:cNvSpPr/>
            <p:nvPr/>
          </p:nvSpPr>
          <p:spPr>
            <a:xfrm>
              <a:off x="3260520" y="548604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2"/>
            <p:cNvSpPr/>
            <p:nvPr/>
          </p:nvSpPr>
          <p:spPr>
            <a:xfrm>
              <a:off x="3543120" y="534168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3"/>
            <p:cNvSpPr/>
            <p:nvPr/>
          </p:nvSpPr>
          <p:spPr>
            <a:xfrm>
              <a:off x="3259800" y="4267080"/>
              <a:ext cx="468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4"/>
            <p:cNvSpPr/>
            <p:nvPr/>
          </p:nvSpPr>
          <p:spPr>
            <a:xfrm>
              <a:off x="6764040" y="427320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5"/>
            <p:cNvSpPr/>
            <p:nvPr/>
          </p:nvSpPr>
          <p:spPr>
            <a:xfrm rot="10800000">
              <a:off x="7526160" y="419652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6"/>
            <p:cNvSpPr/>
            <p:nvPr/>
          </p:nvSpPr>
          <p:spPr>
            <a:xfrm rot="10800000">
              <a:off x="6764040" y="495828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7"/>
            <p:cNvSpPr/>
            <p:nvPr/>
          </p:nvSpPr>
          <p:spPr>
            <a:xfrm rot="10800000">
              <a:off x="6764040" y="351072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 flipH="1">
              <a:off x="6536880" y="45478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 flipV="1">
              <a:off x="7032600" y="405252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 flipV="1">
              <a:off x="7032600" y="489096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 flipH="1">
              <a:off x="7299000" y="45478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 flipH="1">
              <a:off x="6002280" y="434952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3"/>
            <p:cNvSpPr/>
            <p:nvPr/>
          </p:nvSpPr>
          <p:spPr>
            <a:xfrm rot="19260000">
              <a:off x="5691240" y="4501440"/>
              <a:ext cx="480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 rot="10800000">
              <a:off x="5287680" y="4653720"/>
              <a:ext cx="579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 rot="8460000">
              <a:off x="5628240" y="5034600"/>
              <a:ext cx="468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 rot="8460000">
              <a:off x="5247000" y="4577400"/>
              <a:ext cx="468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7"/>
            <p:cNvSpPr/>
            <p:nvPr/>
          </p:nvSpPr>
          <p:spPr>
            <a:xfrm flipH="1" flipV="1">
              <a:off x="5851080" y="4167000"/>
              <a:ext cx="22860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 rot="10800000">
              <a:off x="5316480" y="373932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9"/>
            <p:cNvSpPr/>
            <p:nvPr/>
          </p:nvSpPr>
          <p:spPr>
            <a:xfrm flipH="1">
              <a:off x="5088960" y="40906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40"/>
            <p:cNvSpPr/>
            <p:nvPr/>
          </p:nvSpPr>
          <p:spPr>
            <a:xfrm rot="10800000">
              <a:off x="4554360" y="373932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41"/>
            <p:cNvSpPr/>
            <p:nvPr/>
          </p:nvSpPr>
          <p:spPr>
            <a:xfrm rot="10800000">
              <a:off x="5316480" y="297756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42"/>
            <p:cNvSpPr/>
            <p:nvPr/>
          </p:nvSpPr>
          <p:spPr>
            <a:xfrm flipV="1">
              <a:off x="5584680" y="359532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43"/>
            <p:cNvSpPr/>
            <p:nvPr/>
          </p:nvSpPr>
          <p:spPr>
            <a:xfrm rot="10800000">
              <a:off x="5399640" y="4196520"/>
              <a:ext cx="468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4"/>
            <p:cNvSpPr/>
            <p:nvPr/>
          </p:nvSpPr>
          <p:spPr>
            <a:xfrm>
              <a:off x="3962160" y="4084560"/>
              <a:ext cx="53352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5"/>
            <p:cNvSpPr/>
            <p:nvPr/>
          </p:nvSpPr>
          <p:spPr>
            <a:xfrm>
              <a:off x="4647960" y="5074920"/>
              <a:ext cx="53352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Rectangle 46"/>
          <p:cNvSpPr/>
          <p:nvPr/>
        </p:nvSpPr>
        <p:spPr>
          <a:xfrm>
            <a:off x="0" y="11430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утиче на тачку кључ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ацетамид који гради две водоничне везе има веома високу тачку кључањ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7"/>
          <p:cNvSpPr/>
          <p:nvPr/>
        </p:nvSpPr>
        <p:spPr>
          <a:xfrm>
            <a:off x="1599120" y="2381400"/>
            <a:ext cx="248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ацетам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8"/>
          <p:cNvSpPr/>
          <p:nvPr/>
        </p:nvSpPr>
        <p:spPr>
          <a:xfrm>
            <a:off x="2248920" y="6156360"/>
            <a:ext cx="59000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Тачк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кључањ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= 221</a:t>
            </a:r>
            <a:r>
              <a:rPr b="0" lang="sr-CS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имер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успостављања водоничних ве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1440" y="115092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1. Које од ова два једињења ће градити водоничне везе и које ће имати вишу тачку кључ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2073960" y="2446200"/>
            <a:ext cx="458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лар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валент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682560" y="2903400"/>
            <a:ext cx="248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1388160" y="3284640"/>
            <a:ext cx="8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6037560" y="3360600"/>
            <a:ext cx="10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7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5114520" y="2979720"/>
            <a:ext cx="297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240" y="3970440"/>
            <a:ext cx="9675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лкох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ш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ључ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ано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тано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440" y="4884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лар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ћ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тан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ш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лариш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ђусоб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ач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аг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0" y="36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ПРИМЕРИ: Утицај формирања водоничних веза на температуру кључ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1141920" y="6334200"/>
            <a:ext cx="23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5900760" y="6286680"/>
            <a:ext cx="283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221040" y="2819520"/>
            <a:ext cx="88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5. Јон-индуковани дипол интеракциј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5"/>
          <p:cNvGrpSpPr/>
          <p:nvPr/>
        </p:nvGrpSpPr>
        <p:grpSpPr>
          <a:xfrm>
            <a:off x="0" y="3048120"/>
            <a:ext cx="3581280" cy="2863800"/>
            <a:chOff x="0" y="3048120"/>
            <a:chExt cx="3581280" cy="2863800"/>
          </a:xfrm>
        </p:grpSpPr>
        <p:sp>
          <p:nvSpPr>
            <p:cNvPr id="409" name="AutoShape 6"/>
            <p:cNvSpPr/>
            <p:nvPr/>
          </p:nvSpPr>
          <p:spPr>
            <a:xfrm>
              <a:off x="0" y="3048120"/>
              <a:ext cx="3581280" cy="28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8"/>
            <p:cNvSpPr/>
            <p:nvPr/>
          </p:nvSpPr>
          <p:spPr>
            <a:xfrm>
              <a:off x="673920" y="3925080"/>
              <a:ext cx="574920" cy="5562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855000" y="4063680"/>
              <a:ext cx="363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0"/>
            <p:cNvSpPr/>
            <p:nvPr/>
          </p:nvSpPr>
          <p:spPr>
            <a:xfrm>
              <a:off x="2398320" y="3719880"/>
              <a:ext cx="1005840" cy="9990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2811600" y="4062600"/>
              <a:ext cx="210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3076920" y="3756240"/>
              <a:ext cx="1548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3"/>
            <p:cNvSpPr/>
            <p:nvPr/>
          </p:nvSpPr>
          <p:spPr>
            <a:xfrm>
              <a:off x="1702080" y="4707720"/>
              <a:ext cx="243000" cy="385920"/>
            </a:xfrm>
            <a:prstGeom prst="downArrow">
              <a:avLst>
                <a:gd name="adj1" fmla="val 50000"/>
                <a:gd name="adj2" fmla="val 79414"/>
              </a:avLst>
            </a:prstGeom>
            <a:noFill/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4"/>
            <p:cNvSpPr/>
            <p:nvPr/>
          </p:nvSpPr>
          <p:spPr>
            <a:xfrm>
              <a:off x="806760" y="5355720"/>
              <a:ext cx="574920" cy="5562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5"/>
            <p:cNvSpPr/>
            <p:nvPr/>
          </p:nvSpPr>
          <p:spPr>
            <a:xfrm>
              <a:off x="987840" y="5493600"/>
              <a:ext cx="38340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"/>
            <p:cNvSpPr/>
            <p:nvPr/>
          </p:nvSpPr>
          <p:spPr>
            <a:xfrm>
              <a:off x="2133000" y="5321880"/>
              <a:ext cx="1238040" cy="59004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7"/>
            <p:cNvSpPr/>
            <p:nvPr/>
          </p:nvSpPr>
          <p:spPr>
            <a:xfrm>
              <a:off x="2247840" y="5422320"/>
              <a:ext cx="49500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8"/>
            <p:cNvSpPr/>
            <p:nvPr/>
          </p:nvSpPr>
          <p:spPr>
            <a:xfrm>
              <a:off x="3110040" y="5493600"/>
              <a:ext cx="47124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9"/>
            <p:cNvSpPr/>
            <p:nvPr/>
          </p:nvSpPr>
          <p:spPr>
            <a:xfrm>
              <a:off x="1400400" y="5650200"/>
              <a:ext cx="71208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0"/>
            <p:cNvSpPr/>
            <p:nvPr/>
          </p:nvSpPr>
          <p:spPr>
            <a:xfrm>
              <a:off x="533520" y="4457160"/>
              <a:ext cx="60948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јон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2380680" y="4710600"/>
              <a:ext cx="116280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поларни молекул се поларизуј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22"/>
            <p:cNvSpPr/>
            <p:nvPr/>
          </p:nvSpPr>
          <p:spPr>
            <a:xfrm rot="21123600">
              <a:off x="1678320" y="3975120"/>
              <a:ext cx="1339920" cy="128160"/>
            </a:xfrm>
            <a:prstGeom prst="leftArrow">
              <a:avLst>
                <a:gd name="adj1" fmla="val 50000"/>
                <a:gd name="adj2" fmla="val 261376"/>
              </a:avLst>
            </a:prstGeom>
            <a:solidFill>
              <a:srgbClr val="ff3300"/>
            </a:solidFill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4"/>
          <p:cNvSpPr/>
          <p:nvPr/>
        </p:nvSpPr>
        <p:spPr>
          <a:xfrm>
            <a:off x="0" y="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Јон-индуковани дипол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између јона и неполарног молек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ларан молекул има диполни момен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 једнак нули, али ако се приближи јон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ђ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 електричном пољу јо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ћи ће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распод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електрисањ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нута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, молекул 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остати поларан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ће 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 индукован ди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л, молекул ће у пољу јона имати индуковани диполни момен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0"/>
          <p:cNvSpPr/>
          <p:nvPr/>
        </p:nvSpPr>
        <p:spPr>
          <a:xfrm>
            <a:off x="4038480" y="274320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 узајамног дејства јона и индукованог ди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2"/>
          <p:cNvSpPr/>
          <p:nvPr/>
        </p:nvSpPr>
        <p:spPr>
          <a:xfrm>
            <a:off x="3429000" y="4876920"/>
            <a:ext cx="5715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је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електрисање јон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је поларизибилност неполарног молекула, која је мерило лакоће којом неполарни молекул постаје поларан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је растојање између 1 и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6"/>
          <p:cNvSpPr/>
          <p:nvPr/>
        </p:nvSpPr>
        <p:spPr>
          <a:xfrm>
            <a:off x="1540800" y="5715000"/>
            <a:ext cx="50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5014800" y="3657600"/>
                <a:ext cx="21909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он-индуковани дипол интеракција зависи од способности неполарног молекула да се поларише у електричном пољу, та особина се карактерише величином његове поларизибилност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000240" y="184104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ларизибилност молекула као и диполни моменат зависе од електронске структуре атома од којих је молекул изграђен. У табели је дат преглед поларизибилност неких молеку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0" y="2666880"/>
          <a:ext cx="3000240" cy="2438640"/>
        </p:xfrm>
        <a:graphic>
          <a:graphicData uri="http://schemas.openxmlformats.org/drawingml/2006/table">
            <a:tbl>
              <a:tblPr/>
              <a:tblGrid>
                <a:gridCol w="1214280"/>
                <a:gridCol w="178596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/10</a:t>
                      </a:r>
                      <a:r>
                        <a:rPr b="0" lang="sr-Latn-C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0" lang="sr-Latn-C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Cl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TextBox 7"/>
          <p:cNvSpPr/>
          <p:nvPr/>
        </p:nvSpPr>
        <p:spPr>
          <a:xfrm>
            <a:off x="228600" y="1752480"/>
            <a:ext cx="27147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аризибилно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228600" y="525780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Arial"/>
              </a:rPr>
              <a:t>Енергија интеракције јона  и индукованог дипола је  реда величине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3 - 15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4"/>
              <p:cNvSpPr txBox="1"/>
              <p:nvPr/>
            </p:nvSpPr>
            <p:spPr>
              <a:xfrm>
                <a:off x="6521400" y="5181480"/>
                <a:ext cx="22608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8"/>
          <p:cNvSpPr/>
          <p:nvPr/>
        </p:nvSpPr>
        <p:spPr>
          <a:xfrm>
            <a:off x="762120" y="4114800"/>
            <a:ext cx="99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39960" tIns="20160" bIns="2016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Fe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9"/>
          <p:cNvSpPr/>
          <p:nvPr/>
        </p:nvSpPr>
        <p:spPr>
          <a:xfrm>
            <a:off x="2057400" y="4114800"/>
            <a:ext cx="654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39960" tIns="20160" bIns="2016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80880" y="19051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Arial"/>
              </a:rPr>
              <a:t>Енергија интеракције јона  и индукованог дипола је  реада величине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3 - 15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28320" y="3048120"/>
            <a:ext cx="84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 интеракције јона са неполарним молекул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33520" y="54100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Arial"/>
              </a:rPr>
              <a:t>Везивање молекула кисеоника за јон гвожђа у хемоглобин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just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статич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лачне сил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ђу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ј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екула и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еку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еку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1828800"/>
            <a:ext cx="847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ређ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ч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ч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пљ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ч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ључ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говор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ме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грегат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3048120"/>
            <a:ext cx="877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ређ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ворљив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врст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ч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асовит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пстан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итим растварач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3962520"/>
            <a:ext cx="84708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ж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ј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ређ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ш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молек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Н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те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опш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-12600" y="572760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Поларност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молекула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је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најважнији фактор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који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одређује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међумолекулске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интеракције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5257800"/>
            <a:ext cx="847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ређ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рши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искоз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454040" y="1584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sr-Latn-RS" sz="4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индуковани дипол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 интеракциј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а поларног и неполарног молекула или груп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Дипол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ндуковани дип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0" y="1828800"/>
            <a:ext cx="914400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ларни молекул или поларна група која има диполни моменат </a:t>
            </a:r>
            <a:r>
              <a:rPr b="0" lang="en-IE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IE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оже изазвати поларизацију неполарног молекула или групе, градећи притом индуковани дипо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То ће изазвати интеракцију индукованог дипола са диполом који је изазвао поларизациј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ндуковани дипол (ће пратити промену оријентације сталног дип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D:\My Documents\my doc dell\Vera (Drugi racunar)\My Documents Kucni racunar\polj pred\1,2 slike\FG13_24 indukovani dipoli.jpg"/>
          <p:cNvPicPr/>
          <p:nvPr/>
        </p:nvPicPr>
        <p:blipFill>
          <a:blip r:embed="rId1"/>
          <a:stretch/>
        </p:blipFill>
        <p:spPr>
          <a:xfrm>
            <a:off x="685800" y="4800600"/>
            <a:ext cx="6284880" cy="1681200"/>
          </a:xfrm>
          <a:prstGeom prst="rect">
            <a:avLst/>
          </a:prstGeom>
          <a:ln w="0">
            <a:noFill/>
          </a:ln>
        </p:spPr>
      </p:pic>
      <p:sp>
        <p:nvSpPr>
          <p:cNvPr id="445" name="Right Arrow 6"/>
          <p:cNvSpPr/>
          <p:nvPr/>
        </p:nvSpPr>
        <p:spPr>
          <a:xfrm>
            <a:off x="3686040" y="537228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62"/>
          <p:cNvGrpSpPr/>
          <p:nvPr/>
        </p:nvGrpSpPr>
        <p:grpSpPr>
          <a:xfrm>
            <a:off x="0" y="457200"/>
            <a:ext cx="3454560" cy="3489480"/>
            <a:chOff x="0" y="457200"/>
            <a:chExt cx="3454560" cy="3489480"/>
          </a:xfrm>
        </p:grpSpPr>
        <p:grpSp>
          <p:nvGrpSpPr>
            <p:cNvPr id="447" name="Group 29"/>
            <p:cNvGrpSpPr/>
            <p:nvPr/>
          </p:nvGrpSpPr>
          <p:grpSpPr>
            <a:xfrm>
              <a:off x="0" y="457200"/>
              <a:ext cx="3454560" cy="2416320"/>
              <a:chOff x="0" y="457200"/>
              <a:chExt cx="3454560" cy="2416320"/>
            </a:xfrm>
          </p:grpSpPr>
          <p:sp>
            <p:nvSpPr>
              <p:cNvPr id="448" name="AutoShape 30"/>
              <p:cNvSpPr/>
              <p:nvPr/>
            </p:nvSpPr>
            <p:spPr>
              <a:xfrm>
                <a:off x="0" y="457200"/>
                <a:ext cx="3315240" cy="24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32"/>
              <p:cNvSpPr/>
              <p:nvPr/>
            </p:nvSpPr>
            <p:spPr>
              <a:xfrm>
                <a:off x="213120" y="1118520"/>
                <a:ext cx="1085760" cy="50436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33"/>
              <p:cNvSpPr/>
              <p:nvPr/>
            </p:nvSpPr>
            <p:spPr>
              <a:xfrm>
                <a:off x="313560" y="1204920"/>
                <a:ext cx="1569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 fontScale="98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34"/>
              <p:cNvSpPr/>
              <p:nvPr/>
            </p:nvSpPr>
            <p:spPr>
              <a:xfrm>
                <a:off x="914400" y="1218960"/>
                <a:ext cx="453960" cy="41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35"/>
              <p:cNvSpPr/>
              <p:nvPr/>
            </p:nvSpPr>
            <p:spPr>
              <a:xfrm>
                <a:off x="2103840" y="1030680"/>
                <a:ext cx="882000" cy="8528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36"/>
              <p:cNvSpPr/>
              <p:nvPr/>
            </p:nvSpPr>
            <p:spPr>
              <a:xfrm>
                <a:off x="2438640" y="1295640"/>
                <a:ext cx="429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37"/>
              <p:cNvSpPr/>
              <p:nvPr/>
            </p:nvSpPr>
            <p:spPr>
              <a:xfrm>
                <a:off x="2698560" y="1062000"/>
                <a:ext cx="3495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 fontScale="90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38"/>
              <p:cNvSpPr/>
              <p:nvPr/>
            </p:nvSpPr>
            <p:spPr>
              <a:xfrm>
                <a:off x="1752840" y="1905120"/>
                <a:ext cx="1701720" cy="47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 fontScale="96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оларизована врста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39"/>
              <p:cNvSpPr/>
              <p:nvPr/>
            </p:nvSpPr>
            <p:spPr>
              <a:xfrm>
                <a:off x="459000" y="1759680"/>
                <a:ext cx="759960" cy="4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C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пол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utoShape 40"/>
              <p:cNvSpPr/>
              <p:nvPr/>
            </p:nvSpPr>
            <p:spPr>
              <a:xfrm>
                <a:off x="1580400" y="2165040"/>
                <a:ext cx="96480" cy="213120"/>
              </a:xfrm>
              <a:prstGeom prst="downArrow">
                <a:avLst>
                  <a:gd name="adj1" fmla="val 50000"/>
                  <a:gd name="adj2" fmla="val 107809"/>
                </a:avLst>
              </a:prstGeom>
              <a:noFill/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41"/>
              <p:cNvSpPr/>
              <p:nvPr/>
            </p:nvSpPr>
            <p:spPr>
              <a:xfrm>
                <a:off x="271080" y="2369160"/>
                <a:ext cx="1085760" cy="50436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42"/>
              <p:cNvSpPr/>
              <p:nvPr/>
            </p:nvSpPr>
            <p:spPr>
              <a:xfrm>
                <a:off x="372240" y="2455560"/>
                <a:ext cx="1566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 fontScale="98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43"/>
              <p:cNvSpPr/>
              <p:nvPr/>
            </p:nvSpPr>
            <p:spPr>
              <a:xfrm>
                <a:off x="990360" y="2438640"/>
                <a:ext cx="31968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44"/>
              <p:cNvSpPr/>
              <p:nvPr/>
            </p:nvSpPr>
            <p:spPr>
              <a:xfrm>
                <a:off x="1829160" y="2362320"/>
                <a:ext cx="1085760" cy="50436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45"/>
              <p:cNvSpPr/>
              <p:nvPr/>
            </p:nvSpPr>
            <p:spPr>
              <a:xfrm>
                <a:off x="1942560" y="2455560"/>
                <a:ext cx="3434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46"/>
              <p:cNvSpPr/>
              <p:nvPr/>
            </p:nvSpPr>
            <p:spPr>
              <a:xfrm>
                <a:off x="2591280" y="2438640"/>
                <a:ext cx="349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 fontScale="88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47"/>
              <p:cNvSpPr/>
              <p:nvPr/>
            </p:nvSpPr>
            <p:spPr>
              <a:xfrm>
                <a:off x="1396080" y="2649960"/>
                <a:ext cx="4071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48"/>
              <p:cNvSpPr/>
              <p:nvPr/>
            </p:nvSpPr>
            <p:spPr>
              <a:xfrm rot="21123600">
                <a:off x="1518480" y="1248840"/>
                <a:ext cx="1175400" cy="109440"/>
              </a:xfrm>
              <a:prstGeom prst="leftArrow">
                <a:avLst>
                  <a:gd name="adj1" fmla="val 50000"/>
                  <a:gd name="adj2" fmla="val 268503"/>
                </a:avLst>
              </a:prstGeom>
              <a:solidFill>
                <a:srgbClr val="ff3300"/>
              </a:solidFill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Rectangle 53"/>
            <p:cNvSpPr/>
            <p:nvPr/>
          </p:nvSpPr>
          <p:spPr>
            <a:xfrm>
              <a:off x="1238400" y="3665520"/>
              <a:ext cx="1998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480" bIns="24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7" name="Object 6"/>
              <p:cNvSpPr txBox="1"/>
              <p:nvPr/>
            </p:nvSpPr>
            <p:spPr>
              <a:xfrm>
                <a:off x="6367320" y="1981080"/>
                <a:ext cx="277668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8" name="Rectangle 40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 узајамног дејств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 индукованог дипо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6272280" y="762120"/>
                <a:ext cx="273852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0" name="Text Box 12"/>
          <p:cNvSpPr/>
          <p:nvPr/>
        </p:nvSpPr>
        <p:spPr>
          <a:xfrm>
            <a:off x="0" y="3429000"/>
            <a:ext cx="914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је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иплолни моменат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је поларизибилност неполарног молекула, која је мерило лакоће којом неполарни молекул постаје поларан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је растојање између 1 и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3205800" y="1295280"/>
            <a:ext cx="28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 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als-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си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1"/>
          <p:cNvSpPr/>
          <p:nvPr/>
        </p:nvSpPr>
        <p:spPr>
          <a:xfrm>
            <a:off x="304920" y="46483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нергија узајамног деловањ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дипол-индуковани дипо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ће бити: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2 - 10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1"/>
          <p:cNvSpPr/>
          <p:nvPr/>
        </p:nvSpPr>
        <p:spPr>
          <a:xfrm>
            <a:off x="3276720" y="2362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n der Waals-о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 енергија интеракци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ight Arrow 33"/>
          <p:cNvSpPr/>
          <p:nvPr/>
        </p:nvSpPr>
        <p:spPr>
          <a:xfrm>
            <a:off x="5943600" y="1371600"/>
            <a:ext cx="380880" cy="763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ight Arrow 34"/>
          <p:cNvSpPr/>
          <p:nvPr/>
        </p:nvSpPr>
        <p:spPr>
          <a:xfrm>
            <a:off x="5867280" y="2590920"/>
            <a:ext cx="381240" cy="75960"/>
          </a:xfrm>
          <a:prstGeom prst="rightArrow">
            <a:avLst>
              <a:gd name="adj1" fmla="val 50000"/>
              <a:gd name="adj2" fmla="val 501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5"/>
          <p:cNvSpPr/>
          <p:nvPr/>
        </p:nvSpPr>
        <p:spPr>
          <a:xfrm>
            <a:off x="304920" y="56386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уковани дипол ће постојати само док се налази у електричном пољу друге честице јона или дипола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3" descr="Untitled-1 copy"/>
          <p:cNvPicPr/>
          <p:nvPr/>
        </p:nvPicPr>
        <p:blipFill>
          <a:blip r:embed="rId1"/>
          <a:stretch/>
        </p:blipFill>
        <p:spPr>
          <a:xfrm>
            <a:off x="250920" y="2781360"/>
            <a:ext cx="8713800" cy="194796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0"/>
          <p:cNvSpPr/>
          <p:nvPr/>
        </p:nvSpPr>
        <p:spPr>
          <a:xfrm>
            <a:off x="228600" y="1219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пример дипол-индуковани дипол интеракције је раствање кисеоника у во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69"/>
          <p:cNvSpPr/>
          <p:nvPr/>
        </p:nvSpPr>
        <p:spPr>
          <a:xfrm>
            <a:off x="3276720" y="4876920"/>
            <a:ext cx="2895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39960" tIns="20160" bIns="20160" anchor="t">
            <a:normAutofit fontScale="2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O—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или</a:t>
            </a:r>
            <a:r>
              <a:rPr b="0" lang="sr-CS" sz="36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HCl --Cl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1"/>
          <p:cNvSpPr/>
          <p:nvPr/>
        </p:nvSpPr>
        <p:spPr>
          <a:xfrm>
            <a:off x="1066680" y="990720"/>
            <a:ext cx="76964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ЈОН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УКОВАНИ ДИ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ТЕ ЛИ ДА НАВЕДЕТЕ ЈОШ НЕКИ ПРИМЕР ИНТЕРАКЦИЈЕ ЈОНА СА НЕПОЛАРНИМ МОЛЕКУ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ПОЛ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ДУКОВАНИ ДИП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ТЕ ЛИ ДА НАВЕДЕТЕ ЈОШ НЕКИ ПРИМЕР ДИПОЛ-ИНДУКОВАНИ ДИПОЛ интеракц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7. Интеракција тренутни дипол-индуковани дипол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ondon-</a:t>
            </a: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ове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дисперзионе силе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9" descr="dispers"/>
          <p:cNvPicPr/>
          <p:nvPr/>
        </p:nvPicPr>
        <p:blipFill>
          <a:blip r:embed="rId1"/>
          <a:stretch/>
        </p:blipFill>
        <p:spPr>
          <a:xfrm>
            <a:off x="533520" y="609480"/>
            <a:ext cx="6429240" cy="26560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4"/>
          <p:cNvSpPr/>
          <p:nvPr/>
        </p:nvSpPr>
        <p:spPr>
          <a:xfrm>
            <a:off x="30240" y="0"/>
            <a:ext cx="72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London-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ов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дисперзионе си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228600" y="3995640"/>
            <a:ext cx="891540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аки атом или молекул и неком тренутку има нехомогену расподелу наелектрисања, што се може сликовито приказати као да електронски облак није сверно распоређен око атома, формиран је тренутни дип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о формирани дипол индукује формирање дипола у молекулу који се налази у непосредној билзини. Тренутни дипол-индукује дипо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5" descr="FG11_005"/>
          <p:cNvPicPr/>
          <p:nvPr/>
        </p:nvPicPr>
        <p:blipFill>
          <a:blip r:embed="rId2"/>
          <a:srcRect l="0" t="24662" r="706" b="29557"/>
          <a:stretch/>
        </p:blipFill>
        <p:spPr>
          <a:xfrm>
            <a:off x="609480" y="2057400"/>
            <a:ext cx="6553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исперзионе силе тренутн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ндукова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пол-индуковани дипол интеракциј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9"/>
          <p:cNvGrpSpPr/>
          <p:nvPr/>
        </p:nvGrpSpPr>
        <p:grpSpPr>
          <a:xfrm>
            <a:off x="4711680" y="1295280"/>
            <a:ext cx="3503520" cy="2071800"/>
            <a:chOff x="4711680" y="1295280"/>
            <a:chExt cx="3503520" cy="2071800"/>
          </a:xfrm>
        </p:grpSpPr>
        <p:sp>
          <p:nvSpPr>
            <p:cNvPr id="488" name="AutoShape 20"/>
            <p:cNvSpPr/>
            <p:nvPr/>
          </p:nvSpPr>
          <p:spPr>
            <a:xfrm>
              <a:off x="4901040" y="1295280"/>
              <a:ext cx="331416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2"/>
            <p:cNvSpPr/>
            <p:nvPr/>
          </p:nvSpPr>
          <p:spPr>
            <a:xfrm>
              <a:off x="6107760" y="2291760"/>
              <a:ext cx="1649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дуковани тренутни дипо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3"/>
            <p:cNvSpPr/>
            <p:nvPr/>
          </p:nvSpPr>
          <p:spPr>
            <a:xfrm>
              <a:off x="4711680" y="2176920"/>
              <a:ext cx="13644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ренутни дипол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24"/>
            <p:cNvSpPr/>
            <p:nvPr/>
          </p:nvSpPr>
          <p:spPr>
            <a:xfrm>
              <a:off x="6255000" y="1738080"/>
              <a:ext cx="776160" cy="3780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5"/>
            <p:cNvSpPr/>
            <p:nvPr/>
          </p:nvSpPr>
          <p:spPr>
            <a:xfrm>
              <a:off x="6323760" y="1739520"/>
              <a:ext cx="2908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6"/>
            <p:cNvSpPr/>
            <p:nvPr/>
          </p:nvSpPr>
          <p:spPr>
            <a:xfrm>
              <a:off x="6767640" y="177120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27"/>
            <p:cNvSpPr/>
            <p:nvPr/>
          </p:nvSpPr>
          <p:spPr>
            <a:xfrm>
              <a:off x="4965840" y="1738080"/>
              <a:ext cx="776160" cy="3780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8"/>
            <p:cNvSpPr/>
            <p:nvPr/>
          </p:nvSpPr>
          <p:spPr>
            <a:xfrm>
              <a:off x="5034960" y="1739520"/>
              <a:ext cx="2847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9"/>
            <p:cNvSpPr/>
            <p:nvPr/>
          </p:nvSpPr>
          <p:spPr>
            <a:xfrm>
              <a:off x="5472360" y="1771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30"/>
            <p:cNvSpPr/>
            <p:nvPr/>
          </p:nvSpPr>
          <p:spPr>
            <a:xfrm>
              <a:off x="6545160" y="1787760"/>
              <a:ext cx="1976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1"/>
            <p:cNvSpPr/>
            <p:nvPr/>
          </p:nvSpPr>
          <p:spPr>
            <a:xfrm>
              <a:off x="5256360" y="1818360"/>
              <a:ext cx="197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34"/>
            <p:cNvSpPr/>
            <p:nvPr/>
          </p:nvSpPr>
          <p:spPr>
            <a:xfrm>
              <a:off x="5766120" y="1937160"/>
              <a:ext cx="455400" cy="504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"/>
          <p:cNvGrpSpPr/>
          <p:nvPr/>
        </p:nvGrpSpPr>
        <p:grpSpPr>
          <a:xfrm>
            <a:off x="685800" y="1295280"/>
            <a:ext cx="2971800" cy="2536920"/>
            <a:chOff x="685800" y="1295280"/>
            <a:chExt cx="2971800" cy="2536920"/>
          </a:xfrm>
        </p:grpSpPr>
        <p:sp>
          <p:nvSpPr>
            <p:cNvPr id="501" name="AutoShape 3"/>
            <p:cNvSpPr/>
            <p:nvPr/>
          </p:nvSpPr>
          <p:spPr>
            <a:xfrm>
              <a:off x="685800" y="1295280"/>
              <a:ext cx="2971800" cy="25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5"/>
            <p:cNvSpPr/>
            <p:nvPr/>
          </p:nvSpPr>
          <p:spPr>
            <a:xfrm>
              <a:off x="900000" y="2000160"/>
              <a:ext cx="825480" cy="7984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6"/>
            <p:cNvSpPr/>
            <p:nvPr/>
          </p:nvSpPr>
          <p:spPr>
            <a:xfrm>
              <a:off x="1229760" y="2291400"/>
              <a:ext cx="27972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7"/>
            <p:cNvSpPr/>
            <p:nvPr/>
          </p:nvSpPr>
          <p:spPr>
            <a:xfrm>
              <a:off x="1447560" y="2046600"/>
              <a:ext cx="2905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8"/>
            <p:cNvSpPr/>
            <p:nvPr/>
          </p:nvSpPr>
          <p:spPr>
            <a:xfrm>
              <a:off x="685800" y="2890080"/>
              <a:ext cx="1524240" cy="8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 дужем времеском периоду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не-поларно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9"/>
            <p:cNvSpPr/>
            <p:nvPr/>
          </p:nvSpPr>
          <p:spPr>
            <a:xfrm>
              <a:off x="2414880" y="1936080"/>
              <a:ext cx="687960" cy="3351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0"/>
            <p:cNvSpPr/>
            <p:nvPr/>
          </p:nvSpPr>
          <p:spPr>
            <a:xfrm>
              <a:off x="2476080" y="1937160"/>
              <a:ext cx="2527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1"/>
            <p:cNvSpPr/>
            <p:nvPr/>
          </p:nvSpPr>
          <p:spPr>
            <a:xfrm>
              <a:off x="2932560" y="2005920"/>
              <a:ext cx="25344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2"/>
            <p:cNvSpPr/>
            <p:nvPr/>
          </p:nvSpPr>
          <p:spPr>
            <a:xfrm rot="8940000">
              <a:off x="2250360" y="2453040"/>
              <a:ext cx="689040" cy="3348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3"/>
            <p:cNvSpPr/>
            <p:nvPr/>
          </p:nvSpPr>
          <p:spPr>
            <a:xfrm rot="8940000">
              <a:off x="2579760" y="2339640"/>
              <a:ext cx="2419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4"/>
            <p:cNvSpPr/>
            <p:nvPr/>
          </p:nvSpPr>
          <p:spPr>
            <a:xfrm rot="8940000">
              <a:off x="2271960" y="2581560"/>
              <a:ext cx="25380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5"/>
            <p:cNvSpPr/>
            <p:nvPr/>
          </p:nvSpPr>
          <p:spPr>
            <a:xfrm>
              <a:off x="3033720" y="2381040"/>
              <a:ext cx="334800" cy="6886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6"/>
            <p:cNvSpPr/>
            <p:nvPr/>
          </p:nvSpPr>
          <p:spPr>
            <a:xfrm rot="16200000">
              <a:off x="2894760" y="2595600"/>
              <a:ext cx="582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7"/>
            <p:cNvSpPr/>
            <p:nvPr/>
          </p:nvSpPr>
          <p:spPr>
            <a:xfrm rot="16200000">
              <a:off x="3149280" y="2189520"/>
              <a:ext cx="37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8"/>
            <p:cNvSpPr/>
            <p:nvPr/>
          </p:nvSpPr>
          <p:spPr>
            <a:xfrm>
              <a:off x="2119320" y="3066840"/>
              <a:ext cx="1240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ренут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поларно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Rectangle 33"/>
          <p:cNvSpPr/>
          <p:nvPr/>
        </p:nvSpPr>
        <p:spPr>
          <a:xfrm>
            <a:off x="533520" y="3809880"/>
            <a:ext cx="7286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080" rIns="37080" tIns="18360" bIns="18360" anchor="t">
            <a:normAutofit fontScale="5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во је интеракција која се остварује ка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ЛО КОЈА ВРСТА-БИЛО КОЈА ВР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6"/>
          <p:cNvSpPr/>
          <p:nvPr/>
        </p:nvSpPr>
        <p:spPr>
          <a:xfrm rot="16200000">
            <a:off x="3580560" y="2900880"/>
            <a:ext cx="58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760" rIns="32760" tIns="16560" bIns="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228600" y="51814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нут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уков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по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по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р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б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ве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сут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ч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врст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6640" y="20160"/>
            <a:ext cx="9117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Интеракције тернутни дипол-индуковани ди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117360" y="1298520"/>
            <a:ext cx="33530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Тренутни дипол настаје услед континуалног кретања е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Индуковани диполи се формирају у суседним атомима или молекул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Untitled-1 copy"/>
          <p:cNvPicPr/>
          <p:nvPr/>
        </p:nvPicPr>
        <p:blipFill>
          <a:blip r:embed="rId1"/>
          <a:stretch/>
        </p:blipFill>
        <p:spPr>
          <a:xfrm>
            <a:off x="3200400" y="880920"/>
            <a:ext cx="2103480" cy="58946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Untitled-2 copy"/>
          <p:cNvPicPr/>
          <p:nvPr/>
        </p:nvPicPr>
        <p:blipFill>
          <a:blip r:embed="rId2"/>
          <a:stretch/>
        </p:blipFill>
        <p:spPr>
          <a:xfrm>
            <a:off x="5943600" y="880920"/>
            <a:ext cx="297504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5" descr="0011b"/>
          <p:cNvPicPr/>
          <p:nvPr/>
        </p:nvPicPr>
        <p:blipFill>
          <a:blip r:embed="rId1"/>
          <a:stretch/>
        </p:blipFill>
        <p:spPr>
          <a:xfrm>
            <a:off x="4191120" y="2895480"/>
            <a:ext cx="4952880" cy="28609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4"/>
          <p:cNvSpPr/>
          <p:nvPr/>
        </p:nvSpPr>
        <p:spPr>
          <a:xfrm>
            <a:off x="0" y="0"/>
            <a:ext cx="861048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don-ов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не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аба интеракција изазвана моменталном променом електронске густине око молек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не су једине привлачне силе које се остварују између неполарних једиње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304920" y="2743200"/>
            <a:ext cx="388620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није поларан молекул, али у једном моменту густина наелектрисања око молекула  ће бити несиметрична што ће у суседном молекулу изазвати такође асиметричну прерасподелу густине наелектрисања, што ће довести до слабе интеракције између ових молеку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4343400" y="2743200"/>
            <a:ext cx="480060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donov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дисперзионе силе  између молекул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4038480" y="5334120"/>
            <a:ext cx="5105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симетрична расподела  електронске густине доводи до формирања тренутног дип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00040" y="609480"/>
            <a:ext cx="864396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ИПОВ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ЂУМОЛЕКУЛСК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РАКЦИЈ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ОНИ СА ЈОН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ОНСКА ЈЕДИЊЕЊА И ПОЛАРНИ МОЛЕ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ОНСКА ЈЕДИЊЕЊА И МОЛЕКУЛИ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АРНИХ МОЛЕКУЛА СА ПОЛАРНИМ МОЛЕКУ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ОНИ СА ПОЛАРНИМ МОЛЕКУ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ОНИ СА НЕПОЛАРНИМ МОЛЕКУ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АРНИ МОЛЕКУЛИ СА НЕПОЛАРНИМ МОЛЕКУ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ПОЛАРНИХ МОЛЕКУЛА СА НЕПОЛАРНИМ МОЛЕКУЛИМ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0" y="1143000"/>
            <a:ext cx="5105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еда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енутн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творен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дуку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енутн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ближем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т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енутн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твор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пол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ов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ондонов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ћ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иш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акш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лари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ондонов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ст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ом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ск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еж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ондонов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о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в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ондонов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вис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блик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личине и површине молек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ондонов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фер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ањ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ду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don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-ов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исперзионе си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FG11_006"/>
          <p:cNvPicPr/>
          <p:nvPr/>
        </p:nvPicPr>
        <p:blipFill>
          <a:blip r:embed="rId1"/>
          <a:srcRect l="12857" t="0" r="12145" b="3572"/>
          <a:stretch/>
        </p:blipFill>
        <p:spPr>
          <a:xfrm>
            <a:off x="5143680" y="1447920"/>
            <a:ext cx="4000320" cy="342900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5"/>
          <p:cNvSpPr/>
          <p:nvPr/>
        </p:nvSpPr>
        <p:spPr>
          <a:xfrm>
            <a:off x="5029200" y="480060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чка кључања н-пентана је 309.4 К, а неопентана 262.7 К јер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пентан има знатно већу површин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4"/>
          <p:cNvSpPr/>
          <p:nvPr/>
        </p:nvSpPr>
        <p:spPr>
          <a:xfrm>
            <a:off x="0" y="0"/>
            <a:ext cx="861048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ва једињења имају интеракцију слабим  van der Waals-овим сил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вршина молекула одређује укупну јачину van der Waals-ових сила између молекула. Већа површина молекула омогућиће јачу интеракцију између молеку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6" descr="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33828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0" y="472428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ећа површина молекула јача Лондон-ова  интер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6172200" y="5410080"/>
            <a:ext cx="2666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ања површина молекула слабија Лондон-ова интер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4724280" y="3276720"/>
            <a:ext cx="26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актан сверичан 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0" y="2971800"/>
            <a:ext cx="2133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Дугачак несверич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3"/>
          <p:cNvSpPr/>
          <p:nvPr/>
        </p:nvSpPr>
        <p:spPr>
          <a:xfrm>
            <a:off x="0" y="-7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redjenje medjumolekulskih si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12_04"/>
          <p:cNvPicPr/>
          <p:nvPr/>
        </p:nvPicPr>
        <p:blipFill>
          <a:blip r:embed="rId1"/>
          <a:stretch/>
        </p:blipFill>
        <p:spPr>
          <a:xfrm>
            <a:off x="457200" y="3429000"/>
            <a:ext cx="6934320" cy="2846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8" descr="FG13_454"/>
          <p:cNvPicPr/>
          <p:nvPr/>
        </p:nvPicPr>
        <p:blipFill>
          <a:blip r:embed="rId2"/>
          <a:srcRect l="33014" t="0" r="33997" b="0"/>
          <a:stretch/>
        </p:blipFill>
        <p:spPr>
          <a:xfrm>
            <a:off x="7620120" y="4572000"/>
            <a:ext cx="1130040" cy="2286000"/>
          </a:xfrm>
          <a:prstGeom prst="rect">
            <a:avLst/>
          </a:prstGeom>
          <a:ln w="0">
            <a:noFill/>
          </a:ln>
        </p:spPr>
      </p:pic>
      <p:grpSp>
        <p:nvGrpSpPr>
          <p:cNvPr id="541" name="Group 39"/>
          <p:cNvGrpSpPr/>
          <p:nvPr/>
        </p:nvGrpSpPr>
        <p:grpSpPr>
          <a:xfrm>
            <a:off x="609480" y="152280"/>
            <a:ext cx="8076960" cy="4343400"/>
            <a:chOff x="609480" y="152280"/>
            <a:chExt cx="8076960" cy="4343400"/>
          </a:xfrm>
        </p:grpSpPr>
        <p:sp>
          <p:nvSpPr>
            <p:cNvPr id="542" name="AutoShape 40"/>
            <p:cNvSpPr/>
            <p:nvPr/>
          </p:nvSpPr>
          <p:spPr>
            <a:xfrm>
              <a:off x="3924000" y="152280"/>
              <a:ext cx="1981440" cy="45720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eragujući molekul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li jo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41"/>
            <p:cNvSpPr/>
            <p:nvPr/>
          </p:nvSpPr>
          <p:spPr>
            <a:xfrm>
              <a:off x="3885840" y="914400"/>
              <a:ext cx="2057400" cy="1143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al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čestvuju joni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42"/>
            <p:cNvSpPr/>
            <p:nvPr/>
          </p:nvSpPr>
          <p:spPr>
            <a:xfrm>
              <a:off x="1371240" y="914400"/>
              <a:ext cx="2057400" cy="1143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al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čestvuj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olarni molekuli?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43"/>
            <p:cNvSpPr/>
            <p:nvPr/>
          </p:nvSpPr>
          <p:spPr>
            <a:xfrm>
              <a:off x="6248160" y="914400"/>
              <a:ext cx="2057400" cy="1143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ali s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risutn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olarni moleku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 jon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44"/>
            <p:cNvSpPr/>
            <p:nvPr/>
          </p:nvSpPr>
          <p:spPr>
            <a:xfrm>
              <a:off x="2742840" y="2438280"/>
              <a:ext cx="2057400" cy="1143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ali je 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ez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za N, 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r F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45"/>
            <p:cNvSpPr/>
            <p:nvPr/>
          </p:nvSpPr>
          <p:spPr>
            <a:xfrm>
              <a:off x="609480" y="4191120"/>
              <a:ext cx="1371600" cy="30456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isperz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46"/>
            <p:cNvSpPr/>
            <p:nvPr/>
          </p:nvSpPr>
          <p:spPr>
            <a:xfrm>
              <a:off x="2285640" y="4191120"/>
              <a:ext cx="1371600" cy="30456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ipol-dip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47"/>
            <p:cNvSpPr/>
            <p:nvPr/>
          </p:nvSpPr>
          <p:spPr>
            <a:xfrm>
              <a:off x="3962160" y="4191120"/>
              <a:ext cx="1371600" cy="30456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-vez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48"/>
            <p:cNvSpPr/>
            <p:nvPr/>
          </p:nvSpPr>
          <p:spPr>
            <a:xfrm>
              <a:off x="5638680" y="4191120"/>
              <a:ext cx="1371600" cy="30456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Jon-dip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49"/>
            <p:cNvSpPr/>
            <p:nvPr/>
          </p:nvSpPr>
          <p:spPr>
            <a:xfrm>
              <a:off x="7314840" y="4191120"/>
              <a:ext cx="1371600" cy="30456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Jon -j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2" name="AutoShape 50"/>
            <p:cNvCxnSpPr>
              <a:stCxn id="544" idx="1"/>
              <a:endCxn id="547" idx="0"/>
            </p:cNvCxnSpPr>
            <p:nvPr/>
          </p:nvCxnSpPr>
          <p:spPr>
            <a:xfrm flipV="1" rot="10800000">
              <a:off x="1294560" y="1485720"/>
              <a:ext cx="62640" cy="2691360"/>
            </a:xfrm>
            <a:prstGeom prst="bentConnector2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553" name="AutoShape 51"/>
            <p:cNvCxnSpPr>
              <a:stCxn id="546" idx="1"/>
              <a:endCxn id="548" idx="0"/>
            </p:cNvCxnSpPr>
            <p:nvPr/>
          </p:nvCxnSpPr>
          <p:spPr>
            <a:xfrm flipH="1" flipV="1" rot="10800000">
              <a:off x="2728440" y="3008880"/>
              <a:ext cx="243360" cy="1167480"/>
            </a:xfrm>
            <a:prstGeom prst="bentConnector4">
              <a:avLst>
                <a:gd name="adj1" fmla="val -88148"/>
                <a:gd name="adj2" fmla="val 75077"/>
              </a:avLst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554" name="AutoShape 52"/>
            <p:cNvCxnSpPr>
              <a:stCxn id="546" idx="3"/>
              <a:endCxn id="549" idx="0"/>
            </p:cNvCxnSpPr>
            <p:nvPr/>
          </p:nvCxnSpPr>
          <p:spPr>
            <a:xfrm flipH="1">
              <a:off x="4647600" y="3009600"/>
              <a:ext cx="167040" cy="1167480"/>
            </a:xfrm>
            <a:prstGeom prst="bentConnector4">
              <a:avLst>
                <a:gd name="adj1" fmla="val -128725"/>
                <a:gd name="adj2" fmla="val 75077"/>
              </a:avLst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555" name="AutoShape 53"/>
            <p:cNvCxnSpPr>
              <a:stCxn id="545" idx="2"/>
              <a:endCxn id="550" idx="0"/>
            </p:cNvCxnSpPr>
            <p:nvPr/>
          </p:nvCxnSpPr>
          <p:spPr>
            <a:xfrm rot="5400000">
              <a:off x="5747760" y="2647800"/>
              <a:ext cx="2105640" cy="953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556" name="AutoShape 54"/>
            <p:cNvCxnSpPr>
              <a:stCxn id="545" idx="3"/>
              <a:endCxn id="551" idx="0"/>
            </p:cNvCxnSpPr>
            <p:nvPr/>
          </p:nvCxnSpPr>
          <p:spPr>
            <a:xfrm flipH="1">
              <a:off x="7999920" y="1486080"/>
              <a:ext cx="320040" cy="2691360"/>
            </a:xfrm>
            <a:prstGeom prst="bentConnector4">
              <a:avLst>
                <a:gd name="adj1" fmla="val -67117"/>
                <a:gd name="adj2" fmla="val 60882"/>
              </a:avLst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557" name="AutoShape 55"/>
            <p:cNvCxnSpPr>
              <a:stCxn id="542" idx="2"/>
              <a:endCxn id="543" idx="0"/>
            </p:cNvCxnSpPr>
            <p:nvPr/>
          </p:nvCxnSpPr>
          <p:spPr>
            <a:xfrm>
              <a:off x="4914360" y="623520"/>
              <a:ext cx="1080" cy="276840"/>
            </a:xfrm>
            <a:prstGeom prst="straightConnector1">
              <a:avLst/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558" name="AutoShape 56"/>
            <p:cNvCxnSpPr>
              <a:stCxn id="543" idx="3"/>
              <a:endCxn id="545" idx="1"/>
            </p:cNvCxnSpPr>
            <p:nvPr/>
          </p:nvCxnSpPr>
          <p:spPr>
            <a:xfrm>
              <a:off x="5957280" y="1485720"/>
              <a:ext cx="276840" cy="1080"/>
            </a:xfrm>
            <a:prstGeom prst="straightConnector1">
              <a:avLst/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559" name="AutoShape 57"/>
            <p:cNvCxnSpPr>
              <a:stCxn id="543" idx="1"/>
              <a:endCxn id="544" idx="3"/>
            </p:cNvCxnSpPr>
            <p:nvPr/>
          </p:nvCxnSpPr>
          <p:spPr>
            <a:xfrm flipH="1">
              <a:off x="3442320" y="1485720"/>
              <a:ext cx="429480" cy="1080"/>
            </a:xfrm>
            <a:prstGeom prst="straightConnector1">
              <a:avLst/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560" name="AutoShape 58"/>
            <p:cNvCxnSpPr>
              <a:stCxn id="544" idx="2"/>
              <a:endCxn id="546" idx="0"/>
            </p:cNvCxnSpPr>
            <p:nvPr/>
          </p:nvCxnSpPr>
          <p:spPr>
            <a:xfrm flipH="1" rot="16200000">
              <a:off x="2909520" y="1561680"/>
              <a:ext cx="353160" cy="1372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</p:cxnSp>
        <p:grpSp>
          <p:nvGrpSpPr>
            <p:cNvPr id="561" name="Group 59"/>
            <p:cNvGrpSpPr/>
            <p:nvPr/>
          </p:nvGrpSpPr>
          <p:grpSpPr>
            <a:xfrm>
              <a:off x="918000" y="1219320"/>
              <a:ext cx="7601760" cy="1830960"/>
              <a:chOff x="918000" y="1219320"/>
              <a:chExt cx="7601760" cy="1830960"/>
            </a:xfrm>
          </p:grpSpPr>
          <p:sp>
            <p:nvSpPr>
              <p:cNvPr id="562" name="Text Box 60"/>
              <p:cNvSpPr/>
              <p:nvPr/>
            </p:nvSpPr>
            <p:spPr>
              <a:xfrm>
                <a:off x="3508920" y="1219320"/>
                <a:ext cx="47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N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61"/>
              <p:cNvSpPr/>
              <p:nvPr/>
            </p:nvSpPr>
            <p:spPr>
              <a:xfrm>
                <a:off x="5884200" y="121932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62"/>
              <p:cNvSpPr/>
              <p:nvPr/>
            </p:nvSpPr>
            <p:spPr>
              <a:xfrm>
                <a:off x="918000" y="1447920"/>
                <a:ext cx="47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N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63"/>
              <p:cNvSpPr/>
              <p:nvPr/>
            </p:nvSpPr>
            <p:spPr>
              <a:xfrm>
                <a:off x="2441880" y="2743200"/>
                <a:ext cx="47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N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64"/>
              <p:cNvSpPr/>
              <p:nvPr/>
            </p:nvSpPr>
            <p:spPr>
              <a:xfrm>
                <a:off x="8116560" y="1600200"/>
                <a:ext cx="403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65"/>
              <p:cNvSpPr/>
              <p:nvPr/>
            </p:nvSpPr>
            <p:spPr>
              <a:xfrm>
                <a:off x="2410920" y="198108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66"/>
              <p:cNvSpPr/>
              <p:nvPr/>
            </p:nvSpPr>
            <p:spPr>
              <a:xfrm>
                <a:off x="4696920" y="274320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67"/>
              <p:cNvSpPr/>
              <p:nvPr/>
            </p:nvSpPr>
            <p:spPr>
              <a:xfrm>
                <a:off x="6830640" y="2057400"/>
                <a:ext cx="40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0" y="16765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40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0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 -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40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00 kJ/mo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40 - 600 kJ/mo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5 - 25 kJ/mo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-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Arial"/>
              </a:rPr>
              <a:t>10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 -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Arial"/>
              </a:rPr>
              <a:t>50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 kJ/mo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дуковани дипол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3 - 15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kJ/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дуковани дипол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2 - 10 kJ/mo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 Лондонове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0,05 - 40 kJ/mo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5"/>
          <p:cNvSpPr/>
          <p:nvPr/>
        </p:nvSpPr>
        <p:spPr>
          <a:xfrm>
            <a:off x="8763120" y="1143000"/>
            <a:ext cx="380880" cy="4908600"/>
          </a:xfrm>
          <a:prstGeom prst="upArrow">
            <a:avLst>
              <a:gd name="adj1" fmla="val 50000"/>
              <a:gd name="adj2" fmla="val 64431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6424560" y="0"/>
            <a:ext cx="27194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  <a:ea typeface="Arial"/>
              </a:rPr>
              <a:t>Сила</a:t>
            </a:r>
            <a:r>
              <a:rPr b="0" lang="sr-Latn-CS" sz="3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  <a:ea typeface="Arial"/>
              </a:rPr>
              <a:t>узајамног</a:t>
            </a:r>
            <a:r>
              <a:rPr b="0" lang="sr-Latn-CS" sz="3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  <a:ea typeface="Arial"/>
              </a:rPr>
              <a:t>де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7"/>
          <p:cNvSpPr/>
          <p:nvPr/>
        </p:nvSpPr>
        <p:spPr>
          <a:xfrm>
            <a:off x="7010280" y="3733920"/>
            <a:ext cx="398520" cy="1523880"/>
          </a:xfrm>
          <a:custGeom>
            <a:avLst/>
            <a:gdLst>
              <a:gd name="textAreaLeft" fmla="*/ 0 w 398520"/>
              <a:gd name="textAreaRight" fmla="*/ 144000 w 398520"/>
              <a:gd name="textAreaTop" fmla="*/ 34920 h 1523880"/>
              <a:gd name="textAreaBottom" fmla="*/ 14889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98"/>
                  <a:pt x="10800" y="1596"/>
                </a:cubicBezTo>
                <a:lnTo>
                  <a:pt x="10800" y="9204"/>
                </a:lnTo>
                <a:cubicBezTo>
                  <a:pt x="10800" y="10002"/>
                  <a:pt x="16200" y="10800"/>
                  <a:pt x="21600" y="10800"/>
                </a:cubicBezTo>
                <a:cubicBezTo>
                  <a:pt x="16200" y="10800"/>
                  <a:pt x="10800" y="11598"/>
                  <a:pt x="10800" y="12396"/>
                </a:cubicBezTo>
                <a:lnTo>
                  <a:pt x="10800" y="20004"/>
                </a:lnTo>
                <a:cubicBezTo>
                  <a:pt x="10800" y="20802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7554240" y="365760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66ff"/>
                </a:solidFill>
                <a:latin typeface="Arial"/>
                <a:ea typeface="Arial"/>
              </a:rPr>
              <a:t>“</a:t>
            </a:r>
            <a:r>
              <a:rPr b="1" lang="en-CA" sz="2400" spc="-1" strike="noStrike">
                <a:solidFill>
                  <a:srgbClr val="0066ff"/>
                </a:solidFill>
                <a:latin typeface="Arial"/>
                <a:ea typeface="Arial"/>
              </a:rPr>
              <a:t>van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66ff"/>
                </a:solidFill>
                <a:latin typeface="Arial"/>
                <a:ea typeface="Arial"/>
              </a:rPr>
              <a:t>Waals</a:t>
            </a:r>
            <a:r>
              <a:rPr b="1" lang="sr-Latn-CS" sz="2400" spc="-1" strike="noStrike">
                <a:solidFill>
                  <a:srgbClr val="0066ff"/>
                </a:solidFill>
                <a:latin typeface="Arial"/>
                <a:ea typeface="Arial"/>
              </a:rPr>
              <a:t>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66ff"/>
                </a:solidFill>
                <a:latin typeface="Arial"/>
                <a:ea typeface="Arial"/>
              </a:rPr>
              <a:t>sile</a:t>
            </a:r>
            <a:r>
              <a:rPr b="1" lang="en-CA" sz="2400" spc="-1" strike="noStrike">
                <a:solidFill>
                  <a:srgbClr val="0066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0" y="228600"/>
            <a:ext cx="740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Е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 интеракц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7162920" y="2743200"/>
            <a:ext cx="398520" cy="2514600"/>
          </a:xfrm>
          <a:custGeom>
            <a:avLst/>
            <a:gdLst>
              <a:gd name="textAreaLeft" fmla="*/ 0 w 398520"/>
              <a:gd name="textAreaRight" fmla="*/ 144000 w 398520"/>
              <a:gd name="textAreaTop" fmla="*/ 34920 h 2514600"/>
              <a:gd name="textAreaBottom" fmla="*/ 24796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4"/>
                  <a:pt x="10800" y="967"/>
                </a:cubicBezTo>
                <a:lnTo>
                  <a:pt x="10800" y="9833"/>
                </a:lnTo>
                <a:cubicBezTo>
                  <a:pt x="10800" y="10317"/>
                  <a:pt x="16200" y="10800"/>
                  <a:pt x="21600" y="10800"/>
                </a:cubicBezTo>
                <a:cubicBezTo>
                  <a:pt x="16200" y="10800"/>
                  <a:pt x="10800" y="11284"/>
                  <a:pt x="10800" y="11767"/>
                </a:cubicBezTo>
                <a:lnTo>
                  <a:pt x="10800" y="20633"/>
                </a:lnTo>
                <a:cubicBezTo>
                  <a:pt x="10800" y="21117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1"/>
          <p:cNvSpPr/>
          <p:nvPr/>
        </p:nvSpPr>
        <p:spPr>
          <a:xfrm>
            <a:off x="3049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ЂУМОЛЕКУЛСК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ИНТЕРАКЦИЈЕ УТИЧУ 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ВОРЉИВОСТ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 (расте са порастом јачине интеракције између растворене супстанце и растварач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чку топљења (расте са порастом јачине интера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чку кључања (расте са порастом јачине интера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Напон паре (опада  са порастом јачине интера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Све ове особине зависе од јачине међумолекулске интеракције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itle 1"/>
          <p:cNvSpPr/>
          <p:nvPr/>
        </p:nvSpPr>
        <p:spPr>
          <a:xfrm>
            <a:off x="60948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ЂУМОЛЕКУЛСК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И РАСТВОРЉИВ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8"/>
          <p:cNvSpPr/>
          <p:nvPr/>
        </p:nvSpPr>
        <p:spPr>
          <a:xfrm>
            <a:off x="0" y="0"/>
            <a:ext cx="9144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 РАСТВОР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варање је процес у коме једињење које се зове растворак, хомогено распоређу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раствара у једињењу које се назива раствар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 би се једињење растворило потребно је да се раскину везе између молекула у једињењу које се раствара и између молекула растварача и да се  успоставе везе између молекула растварача и молекула растворен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1" descr=""/>
          <p:cNvPicPr/>
          <p:nvPr/>
        </p:nvPicPr>
        <p:blipFill>
          <a:blip r:embed="rId1"/>
          <a:stretch/>
        </p:blipFill>
        <p:spPr>
          <a:xfrm>
            <a:off x="1523880" y="3514680"/>
            <a:ext cx="5791320" cy="3343320"/>
          </a:xfrm>
          <a:prstGeom prst="rect">
            <a:avLst/>
          </a:prstGeom>
          <a:ln w="0">
            <a:noFill/>
          </a:ln>
        </p:spPr>
      </p:pic>
      <p:sp>
        <p:nvSpPr>
          <p:cNvPr id="581" name="TextBox 3"/>
          <p:cNvSpPr/>
          <p:nvPr/>
        </p:nvSpPr>
        <p:spPr>
          <a:xfrm>
            <a:off x="1225800" y="4038480"/>
            <a:ext cx="125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во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3733920" y="5029200"/>
            <a:ext cx="136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вар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543960" y="5791320"/>
            <a:ext cx="384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варач  растворак интер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4708080" y="5943600"/>
            <a:ext cx="4419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ова растварач  растворак интер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7"/>
          <p:cNvSpPr/>
          <p:nvPr/>
        </p:nvSpPr>
        <p:spPr>
          <a:xfrm>
            <a:off x="2209680" y="6324480"/>
            <a:ext cx="503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интеракције растварач  раствор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"/>
          <p:cNvSpPr/>
          <p:nvPr/>
        </p:nvSpPr>
        <p:spPr>
          <a:xfrm>
            <a:off x="0" y="3348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Растворљивост лека у датом растварачу ће бити зависна од поларности растварач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Растварач може бити: поларан, семи поларан или неполар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Поларни растварач раствара јонске и поларне супста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еполаран растварач раствара неполарне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еми поларан растварач (алкохоли и кетони) могу индуковати поларност па могу растварати и поларне и неполарне супстанце- побољшавати мешљивост супстанц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стварачи се класификују према вредности диелектричне констане: поларни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&gt; 50), семи-поларни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20 - 50),  неполарни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 - 2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4"/>
          <p:cNvSpPr/>
          <p:nvPr/>
        </p:nvSpPr>
        <p:spPr>
          <a:xfrm>
            <a:off x="0" y="0"/>
            <a:ext cx="9144000" cy="68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ињења се растварају у растварачима који имају сличне међумолекулске интера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ично се раствара у сличном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арна једињења се растварају у поларним растварач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ларна или слабо поларна једињења се растварају у неполарним или слабо поларним растварач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а и органски растварачи су два различита типа растварача. Вода је веома поларна и способна је да гради водоничне веза са молекулима који се у њој раствара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ноги органски растварачи су неполарни, као например угљен тетра хлорид (C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и хексан [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, или слабополарни као например диетил етар  (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ноге супстанце растворне у води су нерастворне у органским растварач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90" descr="w0127-n"/>
          <p:cNvPicPr/>
          <p:nvPr/>
        </p:nvPicPr>
        <p:blipFill>
          <a:blip r:embed="rId1"/>
          <a:stretch/>
        </p:blipFill>
        <p:spPr>
          <a:xfrm>
            <a:off x="0" y="685800"/>
            <a:ext cx="3352680" cy="182880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4"/>
          <p:cNvSpPr/>
          <p:nvPr/>
        </p:nvSpPr>
        <p:spPr>
          <a:xfrm>
            <a:off x="8640" y="0"/>
            <a:ext cx="78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астварањ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ларних једињења у вод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86" descr="FG13_012"/>
          <p:cNvPicPr/>
          <p:nvPr/>
        </p:nvPicPr>
        <p:blipFill>
          <a:blip r:embed="rId2"/>
          <a:stretch/>
        </p:blipFill>
        <p:spPr>
          <a:xfrm>
            <a:off x="3733920" y="83808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7"/>
          <p:cNvSpPr/>
          <p:nvPr/>
        </p:nvSpPr>
        <p:spPr>
          <a:xfrm>
            <a:off x="0" y="2819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ораст број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H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група у молекулу растворка повећава растворљивост, јер расте број водоничних веза између воде и молекула раствор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D:\documents\slike sa web 2013\f8.jpg"/>
          <p:cNvPicPr/>
          <p:nvPr/>
        </p:nvPicPr>
        <p:blipFill>
          <a:blip r:embed="rId3"/>
          <a:stretch/>
        </p:blipFill>
        <p:spPr>
          <a:xfrm>
            <a:off x="0" y="3564000"/>
            <a:ext cx="4398840" cy="3294000"/>
          </a:xfrm>
          <a:prstGeom prst="rect">
            <a:avLst/>
          </a:prstGeom>
          <a:ln w="0">
            <a:noFill/>
          </a:ln>
        </p:spPr>
      </p:pic>
      <p:sp>
        <p:nvSpPr>
          <p:cNvPr id="593" name="TextBox 5"/>
          <p:cNvSpPr/>
          <p:nvPr/>
        </p:nvSpPr>
        <p:spPr>
          <a:xfrm>
            <a:off x="3200400" y="6094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Глукоза се раствара у води јер 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лекул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глукозе има 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група које граде водоничне везе са молекулима в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5"/>
          <p:cNvSpPr/>
          <p:nvPr/>
        </p:nvSpPr>
        <p:spPr>
          <a:xfrm>
            <a:off x="3962520" y="35053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лекул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у вод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успостављају велики број водоничних веза са молекулима в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1"/>
          <p:cNvSpPr/>
          <p:nvPr/>
        </p:nvSpPr>
        <p:spPr>
          <a:xfrm>
            <a:off x="1440" y="3429000"/>
            <a:ext cx="374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лекул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т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и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у 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D:\documents\slike sa web 2013\f13.jpg"/>
          <p:cNvPicPr/>
          <p:nvPr/>
        </p:nvPicPr>
        <p:blipFill>
          <a:blip r:embed="rId4"/>
          <a:stretch/>
        </p:blipFill>
        <p:spPr>
          <a:xfrm>
            <a:off x="5019840" y="4343400"/>
            <a:ext cx="3333600" cy="21906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3"/>
          <p:cNvSpPr/>
          <p:nvPr/>
        </p:nvSpPr>
        <p:spPr>
          <a:xfrm>
            <a:off x="2899800" y="2438280"/>
            <a:ext cx="335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и формирања водоничних ве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1. Јон-јон интерак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4"/>
          <p:cNvSpPr/>
          <p:nvPr/>
        </p:nvSpPr>
        <p:spPr>
          <a:xfrm>
            <a:off x="0" y="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молекула и број функционалних група одређују растворљивост у води. Мали број C атома као у метил или етил алкохолу, даје мали скелет C  мањи од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ет C атома, што је упоредиво са величином поларне  OH  што је разлог да се алкохоли са малим бројем C  атома растварају у води. Холестерол има укупно 27 атома угљеника и само једну OH групу. Његов скелет угљеничних атома је превелик у односу на једну OH групу тако да холестерол није растворан у во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0024b"/>
          <p:cNvPicPr/>
          <p:nvPr/>
        </p:nvPicPr>
        <p:blipFill>
          <a:blip r:embed="rId1"/>
          <a:stretch/>
        </p:blipFill>
        <p:spPr>
          <a:xfrm>
            <a:off x="0" y="3728880"/>
            <a:ext cx="9144000" cy="25336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3"/>
          <p:cNvSpPr/>
          <p:nvPr/>
        </p:nvSpPr>
        <p:spPr>
          <a:xfrm>
            <a:off x="0" y="5181480"/>
            <a:ext cx="3429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OH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група гради </a:t>
            </a: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 ве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6248520" y="4648320"/>
            <a:ext cx="2895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олекул је веома велики и ма само једну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OH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групу која гради </a:t>
            </a: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 везе, што није довољно да би се растварао у 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609480" y="464832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тан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3962520" y="3886200"/>
            <a:ext cx="1447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Холестеро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685800" y="579132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воран у вод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4419720" y="571500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растворан у вод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0" y="0"/>
            <a:ext cx="86868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еполарни део молекула који не интерагује са поларним молекулом воде се назива хидрофобни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ларни део молекула који се водоничним везама везује за молекул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се назива хидрофилни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холестеролу је например хидроксилна група хидрофилна а остатак молекула је хидрофоба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0" y="2362320"/>
          <a:ext cx="9144000" cy="4876560"/>
        </p:xfrm>
        <a:graphic>
          <a:graphicData uri="http://schemas.openxmlformats.org/drawingml/2006/table">
            <a:tbl>
              <a:tblPr/>
              <a:tblGrid>
                <a:gridCol w="3048120"/>
                <a:gridCol w="3504960"/>
                <a:gridCol w="2590920"/>
              </a:tblGrid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једиње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ворно у в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ворно у органском растварачу као што је 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l</a:t>
                      </a:r>
                      <a:r>
                        <a:rPr b="1" lang="sr-Latn-C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створно, нема ни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ји могу да граде водоничне вез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но, мање од 5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ома и О који може да гради водоничну вез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створно, више од 5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ома и поред тога што има О који може да гради водоничну вез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"/>
          <p:cNvSpPr/>
          <p:nvPr/>
        </p:nvSpPr>
        <p:spPr>
          <a:xfrm>
            <a:off x="60948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ЊЕН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СОБИН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12960" y="0"/>
            <a:ext cx="54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ОД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ЊЕ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СОБИ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" descr="WatDensPlot"/>
          <p:cNvPicPr/>
          <p:nvPr/>
        </p:nvPicPr>
        <p:blipFill>
          <a:blip r:embed="rId1"/>
          <a:stretch/>
        </p:blipFill>
        <p:spPr>
          <a:xfrm>
            <a:off x="3657600" y="609480"/>
            <a:ext cx="1552680" cy="16192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H2Odipole"/>
          <p:cNvPicPr/>
          <p:nvPr/>
        </p:nvPicPr>
        <p:blipFill>
          <a:blip r:embed="rId2"/>
          <a:stretch/>
        </p:blipFill>
        <p:spPr>
          <a:xfrm>
            <a:off x="6400800" y="1371600"/>
            <a:ext cx="1876320" cy="16002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h2ohbond"/>
          <p:cNvPicPr/>
          <p:nvPr/>
        </p:nvPicPr>
        <p:blipFill>
          <a:blip r:embed="rId3"/>
          <a:stretch/>
        </p:blipFill>
        <p:spPr>
          <a:xfrm>
            <a:off x="304920" y="1752480"/>
            <a:ext cx="2895480" cy="15955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1"/>
          <p:cNvSpPr/>
          <p:nvPr/>
        </p:nvSpPr>
        <p:spPr>
          <a:xfrm>
            <a:off x="5181480" y="0"/>
            <a:ext cx="396252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споде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електрисањ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2" descr="[3-D water structure, showing that the charge distribution is lower around the hydrogen atoms]"/>
          <p:cNvPicPr/>
          <p:nvPr/>
        </p:nvPicPr>
        <p:blipFill>
          <a:blip r:embed="rId4"/>
          <a:stretch/>
        </p:blipFill>
        <p:spPr>
          <a:xfrm>
            <a:off x="6365880" y="3124080"/>
            <a:ext cx="2778120" cy="3391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3" descr="7522n10_03"/>
          <p:cNvPicPr/>
          <p:nvPr/>
        </p:nvPicPr>
        <p:blipFill>
          <a:blip r:embed="rId5"/>
          <a:stretch/>
        </p:blipFill>
        <p:spPr>
          <a:xfrm>
            <a:off x="1447920" y="2590920"/>
            <a:ext cx="4724280" cy="406872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4"/>
          <p:cNvSpPr/>
          <p:nvPr/>
        </p:nvSpPr>
        <p:spPr>
          <a:xfrm>
            <a:off x="360" y="350532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Мрежа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водоничних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веза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у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393840" y="609480"/>
            <a:ext cx="28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3300"/>
                </a:solidFill>
                <a:latin typeface="Arial"/>
                <a:ea typeface="Arial"/>
              </a:rPr>
              <a:t>Јак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  <a:ea typeface="Arial"/>
              </a:rPr>
              <a:t>водоничн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  <a:ea typeface="Arial"/>
              </a:rPr>
              <a:t>в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571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Зашто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лед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лу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h2o_d2o"/>
          <p:cNvPicPr/>
          <p:nvPr/>
        </p:nvPicPr>
        <p:blipFill>
          <a:blip r:embed="rId1"/>
          <a:stretch/>
        </p:blipFill>
        <p:spPr>
          <a:xfrm>
            <a:off x="1562040" y="19810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4"/>
          <p:cNvSpPr/>
          <p:nvPr/>
        </p:nvSpPr>
        <p:spPr>
          <a:xfrm>
            <a:off x="114480" y="4191120"/>
            <a:ext cx="1218960" cy="579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7810560" y="4114800"/>
            <a:ext cx="1219320" cy="579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1409760" y="4419720"/>
            <a:ext cx="114300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7"/>
          <p:cNvSpPr/>
          <p:nvPr/>
        </p:nvSpPr>
        <p:spPr>
          <a:xfrm flipH="1" flipV="1">
            <a:off x="6819840" y="4114440"/>
            <a:ext cx="99072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5707440" y="152460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Највећа густина воде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3.984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50040" y="1429920"/>
            <a:ext cx="40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ма највећу густину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185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"/>
          <p:cNvSpPr/>
          <p:nvPr/>
        </p:nvSpPr>
        <p:spPr>
          <a:xfrm>
            <a:off x="0" y="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ВОДОНИЧНА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ВЕЗА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аномално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понашање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воде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ш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л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рш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врст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то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уш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кова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ч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ђут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и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ч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д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а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хваљујућ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оничн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за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воре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укту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усти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д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ређен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ад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ворен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ксагоналн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уктур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д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лив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ршин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ка,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зер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еана,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ом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т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жив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пркос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ским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мпературам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ладај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м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емљиним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вим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ј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бар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лендарск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дин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 везе објашњавају зашто лед плута на 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rcRect l="0" t="16356" r="0" b="16356"/>
          <a:stretch/>
        </p:blipFill>
        <p:spPr>
          <a:xfrm>
            <a:off x="609480" y="1981080"/>
            <a:ext cx="762336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rcRect l="15053" t="16165" r="11297" b="0"/>
          <a:stretch/>
        </p:blipFill>
        <p:spPr>
          <a:xfrm>
            <a:off x="4724280" y="1600200"/>
            <a:ext cx="4419720" cy="3770280"/>
          </a:xfrm>
          <a:prstGeom prst="rect">
            <a:avLst/>
          </a:prstGeom>
          <a:ln w="0">
            <a:noFill/>
          </a:ln>
        </p:spPr>
      </p:pic>
      <p:sp>
        <p:nvSpPr>
          <p:cNvPr id="631" name="Line 4"/>
          <p:cNvSpPr/>
          <p:nvPr/>
        </p:nvSpPr>
        <p:spPr>
          <a:xfrm flipV="1">
            <a:off x="4191120" y="3047760"/>
            <a:ext cx="13716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304920" y="1295280"/>
            <a:ext cx="396216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творе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ве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ед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ч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во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рас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гревањ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е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скид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уш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во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а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ног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ушће пакова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е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0" y="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р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ри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-457200" y="0"/>
            <a:ext cx="9601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еђумолекулск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теин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3" descr="FG11_25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162320"/>
          </a:xfrm>
          <a:prstGeom prst="rect">
            <a:avLst/>
          </a:prstGeom>
          <a:ln w="0">
            <a:noFill/>
          </a:ln>
        </p:spPr>
      </p:pic>
      <p:sp>
        <p:nvSpPr>
          <p:cNvPr id="636" name="TextBox 3"/>
          <p:cNvSpPr/>
          <p:nvPr/>
        </p:nvSpPr>
        <p:spPr>
          <a:xfrm>
            <a:off x="838080" y="3352680"/>
            <a:ext cx="1600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 в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4"/>
          <p:cNvSpPr/>
          <p:nvPr/>
        </p:nvSpPr>
        <p:spPr>
          <a:xfrm>
            <a:off x="3276720" y="2895480"/>
            <a:ext cx="129528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онски мост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"/>
          <p:cNvSpPr/>
          <p:nvPr/>
        </p:nvSpPr>
        <p:spPr>
          <a:xfrm>
            <a:off x="4876920" y="3352680"/>
            <a:ext cx="13716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улфидне ковалентне в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7238880" y="3352680"/>
            <a:ext cx="19051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 си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3"/>
          <p:cNvSpPr/>
          <p:nvPr/>
        </p:nvSpPr>
        <p:spPr>
          <a:xfrm>
            <a:off x="0" y="838080"/>
            <a:ext cx="5181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ор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структур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лик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НК Прено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ет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орм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5" descr="FIG1_2"/>
          <p:cNvPicPr/>
          <p:nvPr/>
        </p:nvPicPr>
        <p:blipFill>
          <a:blip r:embed="rId1"/>
          <a:srcRect l="16072" t="0" r="16434" b="57381"/>
          <a:stretch/>
        </p:blipFill>
        <p:spPr>
          <a:xfrm>
            <a:off x="6934320" y="0"/>
            <a:ext cx="2209680" cy="18241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FG11_24a"/>
          <p:cNvPicPr/>
          <p:nvPr/>
        </p:nvPicPr>
        <p:blipFill>
          <a:blip r:embed="rId2"/>
          <a:stretch/>
        </p:blipFill>
        <p:spPr>
          <a:xfrm>
            <a:off x="5157720" y="1905120"/>
            <a:ext cx="3986280" cy="152388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5"/>
          <p:cNvSpPr/>
          <p:nvPr/>
        </p:nvSpPr>
        <p:spPr>
          <a:xfrm>
            <a:off x="2880" y="320040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FIG1_1"/>
          <p:cNvPicPr/>
          <p:nvPr/>
        </p:nvPicPr>
        <p:blipFill>
          <a:blip r:embed="rId3"/>
          <a:stretch/>
        </p:blipFill>
        <p:spPr>
          <a:xfrm>
            <a:off x="0" y="3700440"/>
            <a:ext cx="7467480" cy="31575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6"/>
          <p:cNvSpPr/>
          <p:nvPr/>
        </p:nvSpPr>
        <p:spPr>
          <a:xfrm>
            <a:off x="0" y="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marL="4057560" indent="-3657600"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лог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нич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те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59920" y="285840"/>
            <a:ext cx="52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1. ЈО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ЈОН ИНТЕРАК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0" y="9144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 узајамног дејств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међу дв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јо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пада са квадратом растојања, и изражава се Кулоновим  законом, који може да се напише у обл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558720" y="5022720"/>
                <a:ext cx="325296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Text Box 4"/>
          <p:cNvSpPr/>
          <p:nvPr/>
        </p:nvSpPr>
        <p:spPr>
          <a:xfrm>
            <a:off x="0" y="3352680"/>
            <a:ext cx="9144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: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1 Z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електрисања ј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 је елементарно наелектрисање електро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лативна пермитивност, или диелектрична константа, која у води као растварачу има вредност 8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116680" y="5067360"/>
                <a:ext cx="296064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Text Box 4"/>
          <p:cNvSpPr/>
          <p:nvPr/>
        </p:nvSpPr>
        <p:spPr>
          <a:xfrm>
            <a:off x="0" y="627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ергија интеракциј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~400-4000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468360" y="2185920"/>
                <a:ext cx="3146400" cy="19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5027760" y="2044800"/>
                <a:ext cx="2879640" cy="28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елик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1447920"/>
            <a:ext cx="2971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теинс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ели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ој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Н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востру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ели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рж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хваљу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з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Н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твар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unzi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гађ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ки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6" descr="FG11_24b"/>
          <p:cNvPicPr/>
          <p:nvPr/>
        </p:nvPicPr>
        <p:blipFill>
          <a:blip r:embed="rId1"/>
          <a:srcRect l="0" t="0" r="14925" b="1493"/>
          <a:stretch/>
        </p:blipFill>
        <p:spPr>
          <a:xfrm>
            <a:off x="3110040" y="13716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0" y="304920"/>
            <a:ext cx="624852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Јонска једињења садрже супротно наелектрисане јоне који имају међусобно веома јаку електростатчку интеракциј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ротно наелектрисани јони интерагују међусобно много јачом силом него два атома између којих је успостављена ковалентна в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нска једињења су на умереним температурама чврсте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6172200" y="762120"/>
            <a:ext cx="294480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6248520" y="0"/>
            <a:ext cx="289548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онс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400 - 4000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кЈ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/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m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400" spc="-1" strike="noStrike">
                <a:solidFill>
                  <a:srgbClr val="ff3300"/>
                </a:solidFill>
                <a:latin typeface="Arial"/>
                <a:ea typeface="Arial"/>
              </a:rPr>
              <a:t>Ј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он –јон интера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ск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д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мен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ђусобн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о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Cl, KCl, LiCl, NaBr, KI,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6248520" y="4114800"/>
            <a:ext cx="28954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JAKA електростатичка интера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2. Јон-дипол интерак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157400" y="285840"/>
            <a:ext cx="54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ПОЛ – ЈОН ИНТЕРАК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7"/>
              <p:cNvSpPr txBox="1"/>
              <p:nvPr/>
            </p:nvSpPr>
            <p:spPr>
              <a:xfrm>
                <a:off x="6521400" y="4637160"/>
                <a:ext cx="26560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μ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6215040" y="1736640"/>
                <a:ext cx="274320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μ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TextBox 15"/>
          <p:cNvSpPr/>
          <p:nvPr/>
        </p:nvSpPr>
        <p:spPr>
          <a:xfrm>
            <a:off x="0" y="2209680"/>
            <a:ext cx="640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 узајамног дејства јо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 има укупно наелектрисање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 дипо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чији је диполни моменат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пада са растојањем на трећи степен, и има облик Кулоновог зак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11"/>
          <p:cNvGrpSpPr/>
          <p:nvPr/>
        </p:nvGrpSpPr>
        <p:grpSpPr>
          <a:xfrm>
            <a:off x="357120" y="928800"/>
            <a:ext cx="2998080" cy="1171440"/>
            <a:chOff x="357120" y="928800"/>
            <a:chExt cx="2998080" cy="1171440"/>
          </a:xfrm>
        </p:grpSpPr>
        <p:sp>
          <p:nvSpPr>
            <p:cNvPr id="85" name="Line 28"/>
            <p:cNvSpPr/>
            <p:nvPr/>
          </p:nvSpPr>
          <p:spPr>
            <a:xfrm>
              <a:off x="1379520" y="1476360"/>
              <a:ext cx="17748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15"/>
            <p:cNvGrpSpPr/>
            <p:nvPr/>
          </p:nvGrpSpPr>
          <p:grpSpPr>
            <a:xfrm>
              <a:off x="357120" y="928800"/>
              <a:ext cx="1157400" cy="969840"/>
              <a:chOff x="357120" y="928800"/>
              <a:chExt cx="1157400" cy="969840"/>
            </a:xfrm>
          </p:grpSpPr>
          <p:grpSp>
            <p:nvGrpSpPr>
              <p:cNvPr id="87" name="Group 8"/>
              <p:cNvGrpSpPr/>
              <p:nvPr/>
            </p:nvGrpSpPr>
            <p:grpSpPr>
              <a:xfrm>
                <a:off x="357120" y="1328760"/>
                <a:ext cx="1157400" cy="296640"/>
                <a:chOff x="357120" y="1328760"/>
                <a:chExt cx="1157400" cy="296640"/>
              </a:xfrm>
            </p:grpSpPr>
            <p:sp>
              <p:nvSpPr>
                <p:cNvPr id="88" name="Rectangle 7"/>
                <p:cNvSpPr/>
                <p:nvPr/>
              </p:nvSpPr>
              <p:spPr>
                <a:xfrm>
                  <a:off x="612720" y="1436760"/>
                  <a:ext cx="646200" cy="88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val 5"/>
                <p:cNvSpPr/>
                <p:nvPr/>
              </p:nvSpPr>
              <p:spPr>
                <a:xfrm>
                  <a:off x="357120" y="1328760"/>
                  <a:ext cx="282600" cy="28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Oval 6"/>
                <p:cNvSpPr/>
                <p:nvPr/>
              </p:nvSpPr>
              <p:spPr>
                <a:xfrm>
                  <a:off x="1231920" y="1343160"/>
                  <a:ext cx="282600" cy="28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7625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 Box 9"/>
              <p:cNvSpPr/>
              <p:nvPr/>
            </p:nvSpPr>
            <p:spPr>
              <a:xfrm>
                <a:off x="370080" y="10000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10"/>
              <p:cNvSpPr/>
              <p:nvPr/>
            </p:nvSpPr>
            <p:spPr>
              <a:xfrm>
                <a:off x="1227960" y="9288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Group 29"/>
              <p:cNvGrpSpPr/>
              <p:nvPr/>
            </p:nvGrpSpPr>
            <p:grpSpPr>
              <a:xfrm>
                <a:off x="466560" y="1530360"/>
                <a:ext cx="904680" cy="368280"/>
                <a:chOff x="466560" y="1530360"/>
                <a:chExt cx="904680" cy="368280"/>
              </a:xfrm>
            </p:grpSpPr>
            <p:sp>
              <p:nvSpPr>
                <p:cNvPr id="94" name="Text Box 11"/>
                <p:cNvSpPr/>
                <p:nvPr/>
              </p:nvSpPr>
              <p:spPr>
                <a:xfrm>
                  <a:off x="802800" y="15303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12"/>
                <p:cNvSpPr/>
                <p:nvPr/>
              </p:nvSpPr>
              <p:spPr>
                <a:xfrm flipH="1">
                  <a:off x="466560" y="1717560"/>
                  <a:ext cx="35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13"/>
                <p:cNvSpPr/>
                <p:nvPr/>
              </p:nvSpPr>
              <p:spPr>
                <a:xfrm>
                  <a:off x="1020600" y="1730160"/>
                  <a:ext cx="35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29"/>
            <p:cNvGrpSpPr/>
            <p:nvPr/>
          </p:nvGrpSpPr>
          <p:grpSpPr>
            <a:xfrm>
              <a:off x="2961360" y="1022400"/>
              <a:ext cx="393840" cy="522360"/>
              <a:chOff x="2961360" y="1022400"/>
              <a:chExt cx="393840" cy="522360"/>
            </a:xfrm>
          </p:grpSpPr>
          <p:sp>
            <p:nvSpPr>
              <p:cNvPr id="98" name="Oval 16"/>
              <p:cNvSpPr/>
              <p:nvPr/>
            </p:nvSpPr>
            <p:spPr>
              <a:xfrm>
                <a:off x="3114720" y="1424160"/>
                <a:ext cx="108000" cy="120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22"/>
              <p:cNvSpPr/>
              <p:nvPr/>
            </p:nvSpPr>
            <p:spPr>
              <a:xfrm>
                <a:off x="2961360" y="1022400"/>
                <a:ext cx="393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64"/>
            <p:cNvGrpSpPr/>
            <p:nvPr/>
          </p:nvGrpSpPr>
          <p:grpSpPr>
            <a:xfrm>
              <a:off x="950400" y="1731960"/>
              <a:ext cx="2243520" cy="368280"/>
              <a:chOff x="950400" y="1731960"/>
              <a:chExt cx="2243520" cy="368280"/>
            </a:xfrm>
          </p:grpSpPr>
          <p:sp>
            <p:nvSpPr>
              <p:cNvPr id="101" name="Text Box 30"/>
              <p:cNvSpPr/>
              <p:nvPr/>
            </p:nvSpPr>
            <p:spPr>
              <a:xfrm>
                <a:off x="1887480" y="1731960"/>
                <a:ext cx="72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1"/>
              <p:cNvSpPr/>
              <p:nvPr/>
            </p:nvSpPr>
            <p:spPr>
              <a:xfrm>
                <a:off x="2214360" y="1941480"/>
                <a:ext cx="9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2"/>
              <p:cNvSpPr/>
              <p:nvPr/>
            </p:nvSpPr>
            <p:spPr>
              <a:xfrm flipH="1">
                <a:off x="950400" y="1938240"/>
                <a:ext cx="92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Oval 36"/>
          <p:cNvSpPr/>
          <p:nvPr/>
        </p:nvSpPr>
        <p:spPr>
          <a:xfrm>
            <a:off x="357120" y="1285920"/>
            <a:ext cx="1143000" cy="3571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Bent Arrow 39"/>
          <p:cNvSpPr/>
          <p:nvPr/>
        </p:nvSpPr>
        <p:spPr>
          <a:xfrm>
            <a:off x="762120" y="533520"/>
            <a:ext cx="285480" cy="500040"/>
          </a:xfrm>
          <a:custGeom>
            <a:avLst/>
            <a:gdLst/>
            <a:ahLst/>
            <a:rect l="l" t="t" r="r" b="b"/>
            <a:pathLst>
              <a:path w="285750" h="500063">
                <a:moveTo>
                  <a:pt x="0" y="500063"/>
                </a:moveTo>
                <a:lnTo>
                  <a:pt x="0" y="160734"/>
                </a:lnTo>
                <a:cubicBezTo>
                  <a:pt x="0" y="91690"/>
                  <a:pt x="55972" y="35718"/>
                  <a:pt x="125016" y="35718"/>
                </a:cubicBezTo>
                <a:lnTo>
                  <a:pt x="214313" y="35719"/>
                </a:lnTo>
                <a:lnTo>
                  <a:pt x="214313" y="0"/>
                </a:lnTo>
                <a:lnTo>
                  <a:pt x="285750" y="71438"/>
                </a:lnTo>
                <a:lnTo>
                  <a:pt x="214313" y="142875"/>
                </a:lnTo>
                <a:lnTo>
                  <a:pt x="214313" y="107156"/>
                </a:lnTo>
                <a:lnTo>
                  <a:pt x="125016" y="107156"/>
                </a:lnTo>
                <a:cubicBezTo>
                  <a:pt x="95426" y="107156"/>
                  <a:pt x="71438" y="131144"/>
                  <a:pt x="71438" y="160734"/>
                </a:cubicBezTo>
                <a:lnTo>
                  <a:pt x="71438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own Arrow 40"/>
          <p:cNvSpPr/>
          <p:nvPr/>
        </p:nvSpPr>
        <p:spPr>
          <a:xfrm>
            <a:off x="3124080" y="838080"/>
            <a:ext cx="71640" cy="28584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1"/>
          <p:cNvSpPr/>
          <p:nvPr/>
        </p:nvSpPr>
        <p:spPr>
          <a:xfrm>
            <a:off x="0" y="46116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интеракције јона и дипола, зависи од диполног момента дипола и укупног наелектрисања ј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пада са квадратом растој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6"/>
          <p:cNvSpPr/>
          <p:nvPr/>
        </p:nvSpPr>
        <p:spPr>
          <a:xfrm>
            <a:off x="4572000" y="928800"/>
            <a:ext cx="2286000" cy="5713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48680" y="1000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242400" y="10000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Oval 49"/>
          <p:cNvGrpSpPr/>
          <p:nvPr/>
        </p:nvGrpSpPr>
        <p:grpSpPr>
          <a:xfrm>
            <a:off x="7559640" y="987480"/>
            <a:ext cx="480960" cy="480960"/>
            <a:chOff x="7559640" y="987480"/>
            <a:chExt cx="480960" cy="480960"/>
          </a:xfrm>
        </p:grpSpPr>
        <p:pic>
          <p:nvPicPr>
            <p:cNvPr id="112" name="Oval 49" descr=""/>
            <p:cNvPicPr/>
            <p:nvPr/>
          </p:nvPicPr>
          <p:blipFill>
            <a:blip r:embed="rId1"/>
            <a:stretch/>
          </p:blipFill>
          <p:spPr>
            <a:xfrm>
              <a:off x="7559640" y="987480"/>
              <a:ext cx="4809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639200" y="106668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51"/>
          <p:cNvSpPr/>
          <p:nvPr/>
        </p:nvSpPr>
        <p:spPr>
          <a:xfrm>
            <a:off x="7622280" y="990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53"/>
          <p:cNvSpPr/>
          <p:nvPr/>
        </p:nvSpPr>
        <p:spPr>
          <a:xfrm>
            <a:off x="6929280" y="1214280"/>
            <a:ext cx="64296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5072040" y="1643040"/>
                <a:ext cx="11494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Text Box 22"/>
          <p:cNvSpPr/>
          <p:nvPr/>
        </p:nvSpPr>
        <p:spPr>
          <a:xfrm>
            <a:off x="7652520" y="57168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627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ергија интеракциј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~40-600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"/>
              <p:cNvSpPr txBox="1"/>
              <p:nvPr/>
            </p:nvSpPr>
            <p:spPr>
              <a:xfrm>
                <a:off x="6269040" y="3137040"/>
                <a:ext cx="270180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μ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05:21:17Z</dcterms:created>
  <dc:creator>korisnik</dc:creator>
  <dc:description/>
  <dc:language>en-US</dc:language>
  <cp:lastModifiedBy>Snezana Jovanovic</cp:lastModifiedBy>
  <dcterms:modified xsi:type="dcterms:W3CDTF">2023-10-06T12:08:53Z</dcterms:modified>
  <cp:revision>256</cp:revision>
  <dc:subject/>
  <dc:title>Slide 1</dc:title>
</cp:coreProperties>
</file>